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2825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D16-F6FC-40E2-A642-14530D52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5586-3546-4030-90E7-38F58DB8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D924-A44D-40FB-A3A1-5C5552B4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625-AE18-4720-9B61-5411502B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416-5923-48AC-99A5-C2240D25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D819-575F-474B-A672-D2E0189D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203C-D56D-4D13-9F39-D5247847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07B-DECF-4101-BA9E-86A38653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109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DF5-D85E-4FEE-8374-B7FD51ED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40B3-8D2E-4D1E-A2D0-B34B1FA9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B384-BD64-4B80-95B9-EFF817C2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D17-E9E7-479A-9BF4-CE7AB899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247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198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7160" indent="-200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6360"/>
            <a:ext cx="206352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6360"/>
            <a:ext cx="313704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5600" y="6246360"/>
            <a:ext cx="206388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3FA85CC1-7DFE-464A-B3D0-77122C170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416800" cy="71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ius Baer Bank and Trust Company Ltd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ius Baer Trust Company (Cayman) Ltd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GANISATIONAL CHART as of Nov 1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54120" y="3048120"/>
          <a:ext cx="829152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3048120"/>
                    <a:ext cx="829152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90440" y="857160"/>
            <a:ext cx="1585800" cy="11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Board of Direc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, Chairm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L. Lowell, J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, M.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ukot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8920" y="857160"/>
            <a:ext cx="1586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Executive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ukot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89320" y="857160"/>
            <a:ext cx="1587600" cy="11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Board of Direc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, Chairm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. Buck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Nath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les Farrington, M.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og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67360" y="785880"/>
            <a:ext cx="13334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Trust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. Buck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de Kost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. Humphrey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53160" y="785880"/>
            <a:ext cx="19688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Private Label Funds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og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Nath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00480" y="6000840"/>
            <a:ext cx="3746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* A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# B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@ Member Local Management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58920" y="2428920"/>
            <a:ext cx="145908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TRA-AL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1440" y="2428920"/>
            <a:ext cx="139680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Spinn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I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7440" y="2428920"/>
            <a:ext cx="126828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de Kost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PR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27880" y="6286680"/>
            <a:ext cx="1585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ead Count: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14:30:21Z</dcterms:created>
  <dc:creator>J.B.B.T</dc:creator>
  <dc:description/>
  <dc:language>en-US</dc:language>
  <cp:lastModifiedBy>Rudolf</cp:lastModifiedBy>
  <cp:lastPrinted>2000-10-27T14:38:22Z</cp:lastPrinted>
  <dcterms:modified xsi:type="dcterms:W3CDTF">2004-01-28T20:47:55Z</dcterms:modified>
  <cp:revision>4</cp:revision>
  <dc:subject/>
  <dc:title>Julius Baer Bank and Trust Company Ltd. Julius Baer Trust Company (Cayman) Ltd. ORGANISATIONAL CHART as of Oct 1, 2000</dc:title>
</cp:coreProperties>
</file>