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53316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E1CB-25A1-4E7D-9ED1-CC7075024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7225-0DBC-4915-99F5-AC1F2A184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demos extends the lab manual and includes experiments investigating the algorithms for scheduling and process/thread control implemented inside the Windows operating system. Demos are short experiments to be included in the lecture by the i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1F56-14D2-4610-B1A5-C7FA4BD3D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B001-3D37-4D5D-BA63-C4824F688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2595-3BE4-42A6-A59D-8DC21A265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6D16-3719-420E-B695-498A91379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9086-2BF9-4595-9262-F775A33F1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EA37-8BA8-4596-A1D9-B957515C1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1360-042B-4760-8270-8FD3817F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66A15-1DE4-41C0-AFC9-E0E44C0B5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AAB48-DD49-43EF-9BB3-D2EBC2FD3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690C3-E476-43E7-8741-6B560E1AE0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FF08-7A1E-48F7-854B-D89DD3A57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2912-03F6-4390-9340-E3DFCD53D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438E-4415-49A6-97C1-F2EF8862D7E5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04560" y="662580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computername/" TargetMode="External"/><Relationship Id="rId2" Type="http://schemas.openxmlformats.org/officeDocument/2006/relationships/hyperlink" Target="file://compute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569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4: Scheduling and Dispatch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6. D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lumn Selection And Userna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additional details show for each process (icon, descri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View-&gt;Select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usernam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username column in Task Manager with Process Explorer – what is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lect View-&gt;Show Processes From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EF97-6A5F-4F51-9A06-16FF78CC75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mmand Lin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on date/time in task bar (lower right of scre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ss Explorer, hit F5 to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new process created (RUNDLL32.EX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command lin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md.exe process was consuming lots of CPU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line argument showed which .BAT file wa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02043-8CA0-4D4E-9402-17BA1B47D14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ining CPU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39654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rocess properties and look at CPU usage history on the performance grap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ver the mouse over a point to see the time of that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397836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D82C-5C55-4FF1-B93D-D54CA1B71E9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nvironment Variab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tepadexe from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“set  abc=xyz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xp, hit F5 and examine environment variables for Cmd.exe and Notepad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Notepad.exe does not know about the environment variable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3714-9169-481A-B58E-68CD5E174B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482840"/>
            <a:ext cx="360684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440" y="1212840"/>
            <a:ext cx="47898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Security tab of process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rest of access token (username is on image t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OS-assigne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(user r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d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s turn these on when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really a “Resultant Set of Groups” and “Resultant Set of Privileges”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43E8-18C9-4836-B27E-CA5A03829C9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58480"/>
            <a:ext cx="8945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.NET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4197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is aware of .NE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highlight with Options-&gt;Highlight .NE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roperties have .NET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details about .NET process (CLR, Appdom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add .NET-specific columns to proces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724280" y="4419720"/>
            <a:ext cx="40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254560" y="990720"/>
            <a:ext cx="344160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D620-DEDC-4ECA-BFE4-C70EA0EBAF1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tatu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0746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really like Task Manager’s Applications t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Titl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Status colum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the same Windows function as Task Manager to determin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6360" y="3833640"/>
            <a:ext cx="44528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808280" y="5118120"/>
            <a:ext cx="5562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7C5A-2BE8-409B-8184-802A1E18D98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Window Process Find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9560" y="13334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Window process finder toolbar button to identify the owner of 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Regedit and modify HKLM\System\CurrentControlSet\Control\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Options\Product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window process finder target over the resulting popup to see what process owns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2CF5-8724-465E-A540-E2170E1E3CF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7680"/>
            <a:ext cx="876312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12 process/system contro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’d the “Ps” come fro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X process listing tool i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d “p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sTool was a UNIX “ps”-equivalent, Ps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on Windows NT4/2000/XP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remotely as well as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dmin rights to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specify credentials with “-u”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require manual remote software 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E91A-3483-4D2F-BBDA-C0A1B08135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ile – lists &amp; closes remote file op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hutdown – remote shutdown, lock workstation, log off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– run an app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– list processes &amp;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uptime – system up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info – display general system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getsid – displays computer or user S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ervice – service process control (like SC in X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list – dumps event log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uspend – suspend a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– ki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gedon – lists local and remote logon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password – change local/remote 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200F-2F66-4DC1-B6F1-1BA5FD64BB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EFFC-8709-4736-B315-4796F6FFA43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Kill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fect complement to PsLi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Resource Kit Kill and Remote 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 process running on a remote (or local) system with PsList, kill it with P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ask Manager, PsKill lets you ki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if you’re an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“Debug” 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uto-installed remote service and TerminateProces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D5FC-BB5A-4182-9B4C-E2A16FCACA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List/PsKill Lab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9640" y="1053720"/>
            <a:ext cx="838836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Pslist on you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t       (tree 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autorefr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rocess list on your neighbor’s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1"/>
              </a:rPr>
              <a:t>\\computer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 Explorer.exe on your neighbor’s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2"/>
              </a:rPr>
              <a:t>\\compu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rer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B926-09F3-4B10-B980-49B100242A1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Exec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578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ly execut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console programs intera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you to start programs as yourself , in alternate user credentials, or in the System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sExec you c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 a remote command prompt to effec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ight-weight tel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-enable “local only” command-line tool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Ip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uto-installed remo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1BA0-0188-4F9F-A35A-858078E6DC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900"/>
                </a:solidFill>
                <a:latin typeface="Arial"/>
              </a:rPr>
              <a:t>PsExec Lab</a:t>
            </a:r>
            <a:endParaRPr b="0" lang="en-US" sz="44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1484280"/>
            <a:ext cx="895356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Regedit under System accoun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 -s   -i   c:\windows\regedi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Notepad interactively on another workstation (or to yourself if not on a networ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-i  \\computer notepa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Notepad process you created by examining the process tree with pslist on the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7760" indent="-438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parent servic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5FD9-BA13-47A7-A009-8BA937CDA1F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/Thread Kernel Debugger Comman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rocess [/s Session] [Address/Pid [Flags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– display current process (not full detai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342 – display full details of process 3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829fa030 – display process identified by EPROCESS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0 – summary display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7 – full details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hread [Address [Flags]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– current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826e8898 – display thread identified by ETHREAD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user stack, must set process contex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process &lt;address of EPROCES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context &lt;address of page directory (Dirbas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8CC11-7DEE-4929-AEE0-F0812F8FB68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umping Structures with Kernel Debu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” (“Display Type”) command can format most kernel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ax: “dt StructureName address –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 nt!_* - displays all OS structures known to 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lies on type information in symbol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symbols have this for XP, Windows Server 2003, and Windows 2000 SP4 and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thread-related struc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TH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P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O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J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1DDD-A7AB-4AEF-93D5-B8CB9EBB89D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atching the Scheduler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Performance Monitor - Threads Object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56424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65280" y="5410080"/>
            <a:ext cx="3993480" cy="945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Programs | Admin. Too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| Performance Monitor   select “Add to Chart”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Object: Thread.  use Ctrl-leftClick to selec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items in a selection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9BC7-010B-4ED9-B2BB-4CB5D3198BC5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4.6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s invesitga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and Threa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Tools for gathering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 debugger !process and !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F1562-BD9F-45EB-95AE-4686EBF8FD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 Refresh Highlight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388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update speed to paused by pressing space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otepad in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process startup sequ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ing appearance of processes coming and 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FCBD-0D48-48FA-A8D7-7178C29BA3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220320"/>
            <a:ext cx="806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can also show the thread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s sequence of functions c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if start address doesn’t indicate what the thread i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if it’s a generic library start 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7320" y="3305160"/>
            <a:ext cx="2736720" cy="720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6600" y="1938240"/>
            <a:ext cx="2736720" cy="72072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9680" y="4673520"/>
            <a:ext cx="2736720" cy="72072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0600" y="265752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6480" y="402588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45074-AEB3-402A-B2AB-3459C00F41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2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Stack to view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s functions in reverse chronologica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start address on Threads tab is different than first function shown in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because all user threads start in a Windows library function which calls the programmed star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076720" y="4157640"/>
            <a:ext cx="333396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029200" y="301680"/>
            <a:ext cx="3376440" cy="364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0440" y="3357720"/>
            <a:ext cx="2128680" cy="88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A34C-6AF9-4F28-A4C2-EB21216D36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ple: Viewing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0440" y="1530000"/>
            <a:ext cx="80740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Powerpoint was hanging for 1 minute on star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 stack shows waiting on a printer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4848120"/>
            <a:ext cx="3048120" cy="577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AB76-2422-4385-860B-C0F9240F59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uspending Proce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1417680"/>
            <a:ext cx="8388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can suspend a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you want to do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running job but want to pause it to do something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ing the priority still leaves it runn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download but want to have your network bandwidth temporar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ulti-service system process activity is due to other processes calling upon thei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nd a process that is consuming CPU time to see what that does to the system process in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069EC-7EC7-4762-8E02-5CA87A0CE9D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Lab: Suspend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6108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Note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command prom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d Notepad process with Process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switch back to Notepad (should not resp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ask Manager and look at Notepad’s status in the applications ta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me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07B9-AACC-4B0B-B2B4-F17FC1B7D0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36:48Z</dcterms:created>
  <dc:creator>David A. Solomon, Mark E. Russinovich, and Andreas Polze</dc:creator>
  <dc:description/>
  <dc:language>en-US</dc:language>
  <cp:lastModifiedBy>Andreas Polze</cp:lastModifiedBy>
  <cp:lastPrinted>2005-06-05T20:22:41Z</cp:lastPrinted>
  <dcterms:modified xsi:type="dcterms:W3CDTF">2005-06-30T21:30:11Z</dcterms:modified>
  <cp:revision>45</cp:revision>
  <dc:subject>Windows Operating Systems Internals Course</dc:subject>
  <dc:title>Unit OS4: Demos</dc:title>
</cp:coreProperties>
</file>