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4D89-3520-454E-9D7B-55CD861240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8C19-9257-40A1-8770-B9C80B315E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96600" y="5342040"/>
            <a:ext cx="58863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s explain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identifies itself (login name - c), presents request id (n) and requests key and ticket for Ticket Granting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Distribution Center (KDC) generates random session key 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t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generates Ticket Granting Ticket (TGT) {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t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t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Session key is encrypted using the client‘s private key K 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decrypts session key, uses authentification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GT to obtain service-specific ticket from T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S delivers key 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service-specific ticket {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}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authenticates itself against server with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, which is encrypted usin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observation: any two communication partners use their own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D1AE-35E9-4D5D-A92F-9078D08219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96600" y="5342040"/>
            <a:ext cx="58863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ndows Kerberos package, with the cooperation of Kerberos services running on a domain controller, supports version 5, revision 6, of the Kerberos protocol. This protocol is based on Internet RFC 1510 (more info on www.ietf.or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features are required at the C2 level and have been implemented within Windows OS? Some of the most important featur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2811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retionary Access Control - The ability of every user on the system to decide what access other users should have to their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2811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 Reuse - A guarantee that one user can't recover information belonging to another user when it's no longer in use. For example, a C2 evaluated operating system must ensure that a file deleted by one user can't be recovered by an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2811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ountability - The ability for the system to uniquely identify every user on the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2811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diting - The ability for the system to record what users took which a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achieve a C2 evaluation, Windows had to meet all of the C2 feature requirements. However, it actually exceeds C2 requirements in some areas. For example, Windows provides a trusted path - a way to ensure that you are communicating directly with the operating system when providing information like logon passwords - which is not a requirement for C2, but is a requirement for a higher security level, B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oxes are security-related processes and blue are the security-related databases and D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oxes are security-related processes and blue are the security-related databases and D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C7886-E4FF-497C-9A50-519B67318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997C2-47CA-4D99-8419-5CD3F4C32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26BB1-0E02-4081-AB5E-EF8C5AB0F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F9513-E6DE-4314-8E3D-437FA9E25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D4C66-62E9-40B6-B1EF-B2B0F1AA8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4AF47-41B5-402F-9A6B-B60B8757C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6A972-8630-4E79-A258-AF0141DBF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C079A-BC33-44DF-94BF-725890700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D250D-A054-48DA-BE92-4CC03541B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B9379-24F3-418B-B99E-AC2E4948E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41F55-7617-4DD4-BC9B-A032F2142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CEB32-8B24-4E2E-B81F-3EE3B4597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EEF8-3937-4059-ABCD-F2A099D74F64}" type="slidenum">
              <a:rPr b="0" lang="en-GB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7: Security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2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Security Components and Concep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SASS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 Logon service (Netlogon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Windows service (\Windows\System32\Netlogon.dll) that runs inside Lsass and responds to Microsoft LAN Manager 2 Windows NT (pre-Windows 2000) network logo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entication is handled as local logons are, by sending them to Lsass for ver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logon also has a locator service built into it for locating domain controll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2000" y="4035600"/>
            <a:ext cx="129564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Win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5040" y="4318560"/>
            <a:ext cx="892440" cy="2602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G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87640" y="4249800"/>
            <a:ext cx="2556000" cy="14032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95640" y="46814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Net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19640" y="46814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Active Direc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95640" y="518472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19640" y="518472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AM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5653080"/>
            <a:ext cx="1728720" cy="32400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VC1_0.d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87640" y="5977080"/>
            <a:ext cx="1728720" cy="32364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beros.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55640" y="4824360"/>
            <a:ext cx="720720" cy="79236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LSA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087280" y="4594320"/>
            <a:ext cx="863640" cy="3031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374920" y="5292720"/>
            <a:ext cx="6127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32720" y="442908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Event Log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43640" y="457344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32720" y="518472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Active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572436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S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5363640" y="5329080"/>
            <a:ext cx="576360" cy="433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435280" y="4861080"/>
            <a:ext cx="1297080" cy="612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59280" y="4608360"/>
            <a:ext cx="1188720" cy="505080"/>
          </a:xfrm>
          <a:prstGeom prst="rect">
            <a:avLst/>
          </a:prstGeom>
          <a:noFill/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5AA24-22BD-4ACF-A415-0AC946A0D9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6854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439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ogon process (Winlogon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user-mode process running \Windows\System32\Winlogon.exe that is responsible for responding to the SAS and for managing interactive logon s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439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raphical Identification and Authentication (GINA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user-mode DLL that runs in the Winlogon process and that Winlogon uses to obtain a user's name and password or smart card P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is \Windows\System32\Msgina.d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000" y="3898800"/>
            <a:ext cx="1295640" cy="60984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Win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5040" y="4182120"/>
            <a:ext cx="892440" cy="2602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G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87640" y="4113360"/>
            <a:ext cx="2556000" cy="14032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95640" y="454500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Net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19640" y="454500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Active Direc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95640" y="504828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19640" y="504828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AM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87640" y="5516640"/>
            <a:ext cx="1728720" cy="32364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VC1_0.d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5840280"/>
            <a:ext cx="1728720" cy="32400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beros.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55640" y="4687920"/>
            <a:ext cx="720720" cy="79200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LSA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2087280" y="4457880"/>
            <a:ext cx="863640" cy="3031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374920" y="5156280"/>
            <a:ext cx="6127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32720" y="429264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Event Log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43640" y="443700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32720" y="504828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Active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558792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S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363640" y="5192640"/>
            <a:ext cx="576360" cy="433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435280" y="4724280"/>
            <a:ext cx="1297080" cy="612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3787920"/>
            <a:ext cx="1547640" cy="828360"/>
          </a:xfrm>
          <a:prstGeom prst="rect">
            <a:avLst/>
          </a:prstGeom>
          <a:noFill/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5ACD8-C927-40DC-AE51-AD53BE73E0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 Reference Monito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s object access checks, manipulates privileges, and generates audit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of functions in Ntoskrnl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documented in D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ed to user mode by Windows API c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: Open Ntoskrnl.exe with Dependency Walker and view functions starting with “S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97EE5-38FC-4C6F-90D4-881CD8B9FA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mmunication between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RM and LSA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ion via local procedure call (LP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saCommandPort/SeRmCommand port for initia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 of private ports/shared memory when initialization is comple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14560" y="3597120"/>
            <a:ext cx="2210040" cy="5806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Local security</a:t>
            </a:r>
            <a:br>
              <a:rPr sz="1600"/>
            </a:b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authority (LSA)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14560" y="4206960"/>
            <a:ext cx="2210040" cy="3373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eLsaCommand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24600" y="4206960"/>
            <a:ext cx="2230200" cy="3373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rivate comm. 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4206960"/>
            <a:ext cx="2230560" cy="3373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rivate comm. 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14560" y="5276880"/>
            <a:ext cx="22100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eRmCommand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24600" y="5276880"/>
            <a:ext cx="22302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rivate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comm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5276880"/>
            <a:ext cx="22305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rivate comm. 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14560" y="5657760"/>
            <a:ext cx="221004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ecurity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reference</a:t>
            </a:r>
            <a:br>
              <a:rPr sz="1600"/>
            </a:b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monitor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(S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779600" y="5334120"/>
            <a:ext cx="83448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ha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800600"/>
            <a:ext cx="8229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46320" y="4495680"/>
            <a:ext cx="133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2000" y="3276720"/>
            <a:ext cx="208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et audit event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Create logon session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elete logon 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5680" y="5699160"/>
            <a:ext cx="20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Write audit mess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elete logon 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62745-A367-4EAA-BD61-F82F06AAAD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hat Makes Logon Secure?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anyone logs on, the visible desktop is Winlogon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logon registers CTRL+ALT+DEL, the Secure Attention Sequence (SAS), as a standard hotkey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S takes you to the Winlogon desk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pplication can deregister it because only the thread that registers a hotkey can deregister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indows’ keyboard input processing code sees SAS it disables keyboard hooks so that no one can intercept 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0E1BD-6C67-492B-B152-44BB75C295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g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getting security identification (account name, password), the GINA sends it to the Local Security Authority Sub System (LSA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SASS calls an authentication package to verify the lo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logon is local or to a legacy domain, MSV1_0 is the authenticator. User name and password are encrypted and compared against the Security Accounts Manager (SAM)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logon is to a AD domain the authenticator is Kerberos, which communicates with the AD service on a domain controll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re is a match, the SIDs of the corresponding user account and its groups are retrie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ly, LSASS retrieves account privileges from the Security database or from 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49FA4-97AD-4945-8540-47F87A36C2FB}" type="slidenum">
              <a:t>15</a:t>
            </a:fld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g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SASS creates a token for your logon session and Winlogon attaches it to the first process of your s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kens are created with the NtCreateToken A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y process gets 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p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its parent’s tok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s and privileges cannot be added to a to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gon session is active as long as there is at least one token associated with the s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“LogonSessions –p” (from Sysinternals) to view the active logon sessions on your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70CEF-FAB0-4187-BD8C-A76DE42E67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cal Log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22640" y="2546280"/>
            <a:ext cx="1581120" cy="109692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17960" y="4081320"/>
            <a:ext cx="1581120" cy="109728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50920" y="2044800"/>
          <a:ext cx="302868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044800"/>
                    <a:ext cx="302868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273480" y="3033720"/>
            <a:ext cx="690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60720" y="2479680"/>
            <a:ext cx="1563840" cy="1028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0720" y="3022560"/>
            <a:ext cx="1563840" cy="49392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MSG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7480" y="4010040"/>
            <a:ext cx="1563840" cy="1028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7480" y="4551480"/>
            <a:ext cx="1563840" cy="49536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MSV1_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57800" y="413712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LS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721400" y="3511080"/>
            <a:ext cx="734760" cy="497160"/>
            <a:chOff x="4721400" y="3511080"/>
            <a:chExt cx="734760" cy="497160"/>
          </a:xfrm>
        </p:grpSpPr>
        <p:sp>
          <p:nvSpPr>
            <p:cNvPr id="253" name=""/>
            <p:cNvSpPr/>
            <p:nvPr/>
          </p:nvSpPr>
          <p:spPr>
            <a:xfrm flipH="1" flipV="1">
              <a:off x="4721400" y="3511080"/>
              <a:ext cx="1440" cy="497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56400" y="35924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436e"/>
                  </a:solidFill>
                  <a:latin typeface="Times New Roman"/>
                </a:rPr>
                <a:t>LP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249800" y="259884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Winlo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41840" y="4803840"/>
            <a:ext cx="604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76560" y="55339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AMSR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165720" y="3419640"/>
          <a:ext cx="2401920" cy="20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5720" y="3419640"/>
                    <a:ext cx="240192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20415-8A87-44B6-9FC2-283094E25E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370160" y="3076560"/>
            <a:ext cx="1855800" cy="102384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59200" y="2967120"/>
            <a:ext cx="1581120" cy="109692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54520" y="4502160"/>
            <a:ext cx="1581120" cy="109692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16600" y="2962440"/>
            <a:ext cx="1646280" cy="106668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258920" y="2959200"/>
          <a:ext cx="1857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959200"/>
                    <a:ext cx="1857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3110040" y="3454560"/>
            <a:ext cx="690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7280" y="2900520"/>
            <a:ext cx="1563840" cy="1028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32360" y="303372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Winlo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97280" y="3443400"/>
            <a:ext cx="1563840" cy="49356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MSG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94040" y="4430880"/>
            <a:ext cx="1563840" cy="1028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94040" y="4971960"/>
            <a:ext cx="1563840" cy="49536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Kerbe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94000" y="455760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LS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72320" y="2887560"/>
            <a:ext cx="1563480" cy="102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72320" y="3429000"/>
            <a:ext cx="1563480" cy="49536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NTD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80200" y="299232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LS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56200" y="2722680"/>
            <a:ext cx="0" cy="3192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557240" y="3932280"/>
            <a:ext cx="735120" cy="496800"/>
            <a:chOff x="4557240" y="3932280"/>
            <a:chExt cx="735120" cy="496800"/>
          </a:xfrm>
        </p:grpSpPr>
        <p:sp>
          <p:nvSpPr>
            <p:cNvPr id="278" name=""/>
            <p:cNvSpPr/>
            <p:nvPr/>
          </p:nvSpPr>
          <p:spPr>
            <a:xfrm flipH="1" flipV="1">
              <a:off x="4557240" y="3932280"/>
              <a:ext cx="1800" cy="496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92600" y="40132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436e"/>
                  </a:solidFill>
                  <a:latin typeface="Times New Roman"/>
                </a:rPr>
                <a:t>LP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 flipH="1" flipV="1">
            <a:off x="7462440" y="3948120"/>
            <a:ext cx="1800" cy="496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370480" y="3674880"/>
            <a:ext cx="1390680" cy="1495080"/>
            <a:chOff x="5370480" y="3674880"/>
            <a:chExt cx="1390680" cy="1495080"/>
          </a:xfrm>
        </p:grpSpPr>
        <p:sp>
          <p:nvSpPr>
            <p:cNvPr id="282" name=""/>
            <p:cNvSpPr/>
            <p:nvPr/>
          </p:nvSpPr>
          <p:spPr>
            <a:xfrm flipV="1">
              <a:off x="5370480" y="3674880"/>
              <a:ext cx="1390680" cy="149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07320" y="37972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D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662160" y="244944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omain Control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63560" y="463248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ocal Mach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mote Logon - Active Director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logon is for a domain account, the encrypted credentials are sent to LSASS on the domain controll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12000" y="4437000"/>
            <a:ext cx="1079640" cy="15130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Acti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60C99-97FB-4547-95FB-E0110EC69A21}" type="slidenum">
              <a:t>18</a:t>
            </a:fld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Authentic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253880"/>
            <a:ext cx="37864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account store in Activ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7074000" y="1413000"/>
            <a:ext cx="1807560" cy="1717560"/>
            <a:chOff x="7074000" y="1413000"/>
            <a:chExt cx="1807560" cy="1717560"/>
          </a:xfrm>
        </p:grpSpPr>
        <p:sp>
          <p:nvSpPr>
            <p:cNvPr id="292" name=""/>
            <p:cNvSpPr/>
            <p:nvPr/>
          </p:nvSpPr>
          <p:spPr>
            <a:xfrm>
              <a:off x="7074000" y="1413000"/>
              <a:ext cx="1807560" cy="1717560"/>
            </a:xfrm>
            <a:prstGeom prst="triangle">
              <a:avLst>
                <a:gd name="adj" fmla="val 49986"/>
              </a:avLst>
            </a:prstGeom>
            <a:gradFill rotWithShape="0">
              <a:gsLst>
                <a:gs pos="0">
                  <a:srgbClr val="4b6532"/>
                </a:gs>
                <a:gs pos="100000">
                  <a:srgbClr val="99cc66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85880" y="1944360"/>
              <a:ext cx="0" cy="12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04520" y="1791360"/>
              <a:ext cx="159120" cy="14004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18480" y="2169720"/>
              <a:ext cx="167040" cy="29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01720" y="2187360"/>
              <a:ext cx="249480" cy="30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07760" y="2068920"/>
              <a:ext cx="157320" cy="14184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512480" y="2541960"/>
              <a:ext cx="279720" cy="35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18480" y="2531160"/>
              <a:ext cx="298800" cy="370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18480" y="2523240"/>
              <a:ext cx="0" cy="37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57680" y="2505600"/>
              <a:ext cx="170280" cy="38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35080" y="2824200"/>
              <a:ext cx="1591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78120" y="2444040"/>
              <a:ext cx="1591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32800" y="2444040"/>
              <a:ext cx="1573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40480" y="2824200"/>
              <a:ext cx="1591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36640" y="2824200"/>
              <a:ext cx="15768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38920" y="2824200"/>
              <a:ext cx="1591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572000" y="3716280"/>
            <a:ext cx="1147680" cy="107496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380880" y="1413000"/>
            <a:ext cx="7413840" cy="2679480"/>
            <a:chOff x="380880" y="1413000"/>
            <a:chExt cx="7413840" cy="2679480"/>
          </a:xfrm>
        </p:grpSpPr>
        <p:sp>
          <p:nvSpPr>
            <p:cNvPr id="310" name=""/>
            <p:cNvSpPr/>
            <p:nvPr/>
          </p:nvSpPr>
          <p:spPr>
            <a:xfrm>
              <a:off x="380880" y="2541600"/>
              <a:ext cx="417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7120" indent="-357120">
                <a:spcBef>
                  <a:spcPts val="601"/>
                </a:spcBef>
                <a:spcAft>
                  <a:spcPts val="601"/>
                </a:spcAft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ntegrated Kerberos v5 log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4772160" y="1413000"/>
              <a:ext cx="3022560" cy="2679480"/>
              <a:chOff x="4772160" y="1413000"/>
              <a:chExt cx="3022560" cy="2679480"/>
            </a:xfrm>
          </p:grpSpPr>
          <p:sp>
            <p:nvSpPr>
              <p:cNvPr id="312" name=""/>
              <p:cNvSpPr/>
              <p:nvPr/>
            </p:nvSpPr>
            <p:spPr>
              <a:xfrm>
                <a:off x="4772160" y="1413000"/>
                <a:ext cx="2438280" cy="1468440"/>
              </a:xfrm>
              <a:prstGeom prst="ellipse">
                <a:avLst/>
              </a:prstGeom>
              <a:gradFill rotWithShape="0">
                <a:gsLst>
                  <a:gs pos="0">
                    <a:srgbClr val="32647d"/>
                  </a:gs>
                  <a:gs pos="100000">
                    <a:srgbClr val="66ccff"/>
                  </a:gs>
                </a:gsLst>
                <a:lin ang="5400000"/>
              </a:gradFill>
              <a:ln w="12600">
                <a:solidFill>
                  <a:srgbClr val="00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Key Distribution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enter (KDC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5558040" y="2881440"/>
                <a:ext cx="741240" cy="1211040"/>
              </a:xfrm>
              <a:prstGeom prst="line">
                <a:avLst/>
              </a:prstGeom>
              <a:ln w="38160">
                <a:solidFill>
                  <a:srgbClr val="66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216920" y="2211480"/>
                <a:ext cx="577800" cy="0"/>
              </a:xfrm>
              <a:prstGeom prst="line">
                <a:avLst/>
              </a:prstGeom>
              <a:ln w="38160">
                <a:solidFill>
                  <a:srgbClr val="66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396720" y="3429000"/>
            <a:ext cx="5881680" cy="2535120"/>
            <a:chOff x="396720" y="3429000"/>
            <a:chExt cx="5881680" cy="2535120"/>
          </a:xfrm>
        </p:grpSpPr>
        <p:sp>
          <p:nvSpPr>
            <p:cNvPr id="316" name=""/>
            <p:cNvSpPr/>
            <p:nvPr/>
          </p:nvSpPr>
          <p:spPr>
            <a:xfrm>
              <a:off x="396720" y="3429000"/>
              <a:ext cx="4422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7120" indent="-357120">
                <a:spcBef>
                  <a:spcPts val="601"/>
                </a:spcBef>
                <a:spcAft>
                  <a:spcPts val="601"/>
                </a:spcAft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otected store for public key credentia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943520" y="4975200"/>
              <a:ext cx="1334880" cy="988920"/>
              <a:chOff x="4943520" y="4975200"/>
              <a:chExt cx="1334880" cy="988920"/>
            </a:xfrm>
          </p:grpSpPr>
          <p:sp>
            <p:nvSpPr>
              <p:cNvPr id="318" name=""/>
              <p:cNvSpPr/>
              <p:nvPr/>
            </p:nvSpPr>
            <p:spPr>
              <a:xfrm>
                <a:off x="4943520" y="4975200"/>
                <a:ext cx="1334880" cy="9889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281800"/>
                  </a:gs>
                  <a:gs pos="100000">
                    <a:srgbClr val="ff9900"/>
                  </a:gs>
                </a:gsLst>
                <a:lin ang="5400000"/>
              </a:gradFill>
              <a:ln w="12600">
                <a:solidFill>
                  <a:srgbClr val="00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5634000" y="5308560"/>
                <a:ext cx="480960" cy="534960"/>
                <a:chOff x="5634000" y="5308560"/>
                <a:chExt cx="480960" cy="534960"/>
              </a:xfrm>
            </p:grpSpPr>
            <p:graphicFrame>
              <p:nvGraphicFramePr>
                <p:cNvPr id="320" name=""/>
                <p:cNvGraphicFramePr/>
                <p:nvPr/>
              </p:nvGraphicFramePr>
              <p:xfrm>
                <a:off x="5634000" y="5308560"/>
                <a:ext cx="480960" cy="5349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321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634000" y="5308560"/>
                          <a:ext cx="480960" cy="534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22" name=""/>
                <p:cNvSpPr/>
                <p:nvPr/>
              </p:nvSpPr>
              <p:spPr>
                <a:xfrm>
                  <a:off x="5709960" y="5420160"/>
                  <a:ext cx="13968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323" name=""/>
              <p:cNvGraphicFramePr/>
              <p:nvPr/>
            </p:nvGraphicFramePr>
            <p:xfrm>
              <a:off x="5068800" y="5297400"/>
              <a:ext cx="363600" cy="4870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24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068800" y="5297400"/>
                        <a:ext cx="363600" cy="487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325" name=""/>
          <p:cNvGrpSpPr/>
          <p:nvPr/>
        </p:nvGrpSpPr>
        <p:grpSpPr>
          <a:xfrm>
            <a:off x="396720" y="4322880"/>
            <a:ext cx="8294400" cy="1363680"/>
            <a:chOff x="396720" y="4322880"/>
            <a:chExt cx="8294400" cy="1363680"/>
          </a:xfrm>
        </p:grpSpPr>
        <p:grpSp>
          <p:nvGrpSpPr>
            <p:cNvPr id="326" name=""/>
            <p:cNvGrpSpPr/>
            <p:nvPr/>
          </p:nvGrpSpPr>
          <p:grpSpPr>
            <a:xfrm>
              <a:off x="7964640" y="4322880"/>
              <a:ext cx="726480" cy="960120"/>
              <a:chOff x="7964640" y="4322880"/>
              <a:chExt cx="726480" cy="960120"/>
            </a:xfrm>
          </p:grpSpPr>
          <p:sp>
            <p:nvSpPr>
              <p:cNvPr id="327" name=""/>
              <p:cNvSpPr/>
              <p:nvPr/>
            </p:nvSpPr>
            <p:spPr>
              <a:xfrm>
                <a:off x="8217000" y="4353120"/>
                <a:ext cx="315360" cy="92988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2844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235000" y="4842720"/>
                <a:ext cx="280800" cy="3956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2844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235000" y="4523400"/>
                <a:ext cx="267480" cy="26604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2844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964640" y="4324680"/>
                <a:ext cx="567720" cy="3852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2844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964640" y="4324680"/>
                <a:ext cx="253800" cy="95832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2844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188560" y="4357080"/>
                <a:ext cx="29880" cy="9255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235000" y="4521600"/>
                <a:ext cx="280800" cy="27792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235000" y="4470840"/>
                <a:ext cx="280800" cy="5472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235000" y="4387680"/>
                <a:ext cx="280800" cy="4644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964640" y="4322880"/>
                <a:ext cx="567720" cy="4032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214840" y="4353120"/>
                <a:ext cx="317520" cy="92988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964640" y="4324680"/>
                <a:ext cx="252360" cy="95832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188560" y="4359240"/>
                <a:ext cx="0" cy="89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188560" y="437112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188560" y="443844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235000" y="4387680"/>
                <a:ext cx="280800" cy="4644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188560" y="445860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188560" y="452160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188560" y="477540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235000" y="4536000"/>
                <a:ext cx="0" cy="25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514360" y="4523400"/>
                <a:ext cx="0" cy="25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235000" y="4523400"/>
                <a:ext cx="267480" cy="2638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500680" y="4769640"/>
                <a:ext cx="13320" cy="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8234640" y="4606920"/>
                <a:ext cx="265320" cy="1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8234640" y="4692240"/>
                <a:ext cx="265320" cy="1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188560" y="4842720"/>
                <a:ext cx="343800" cy="338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188560" y="5200200"/>
                <a:ext cx="343800" cy="42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235000" y="4862880"/>
                <a:ext cx="0" cy="37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514360" y="4842720"/>
                <a:ext cx="0" cy="35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235000" y="5175720"/>
                <a:ext cx="280800" cy="42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235000" y="5159160"/>
                <a:ext cx="280800" cy="42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235000" y="5145480"/>
                <a:ext cx="280800" cy="4032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235000" y="5128920"/>
                <a:ext cx="280800" cy="3672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235000" y="5110920"/>
                <a:ext cx="280800" cy="3816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235000" y="4389480"/>
                <a:ext cx="267480" cy="4248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500680" y="4419720"/>
                <a:ext cx="13320" cy="3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300160" y="4470840"/>
                <a:ext cx="150120" cy="5472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2844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235000" y="4470840"/>
                <a:ext cx="280800" cy="4824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235000" y="4493160"/>
                <a:ext cx="215280" cy="342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8448840" y="4497120"/>
                <a:ext cx="65160" cy="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449200" y="4470840"/>
                <a:ext cx="0" cy="1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248680" y="4409640"/>
                <a:ext cx="2772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286840" y="440784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325360" y="440784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65320" y="440784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405640" y="440568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442360" y="440208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482320" y="440208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487360" y="4523400"/>
                <a:ext cx="28080" cy="247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530920" y="5151240"/>
                <a:ext cx="160200" cy="910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396720" y="4861080"/>
              <a:ext cx="417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7120" indent="-357120">
                <a:spcBef>
                  <a:spcPts val="601"/>
                </a:spcBef>
                <a:spcAft>
                  <a:spcPts val="601"/>
                </a:spcAft>
                <a:buSzPct val="113173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ndustry standard network security protoco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68920" y="4491000"/>
              <a:ext cx="2222640" cy="1800"/>
            </a:xfrm>
            <a:prstGeom prst="line">
              <a:avLst/>
            </a:prstGeom>
            <a:ln w="38160">
              <a:solidFill>
                <a:srgbClr val="fe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81800" y="4597560"/>
              <a:ext cx="1369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Kerberos,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SL/TLS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the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457280" y="6273720"/>
            <a:ext cx="64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 SSL - Secure Socket Layer, TLS - Transport Layer Security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90F56-EF82-4028-A189-EB43CCFF8D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34EE8-7567-493E-9929-8F3536C6C27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ross-platform Strateg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Kerberos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1698480" y="3429000"/>
            <a:ext cx="862200" cy="8334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483480" y="49489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16080" y="5480640"/>
            <a:ext cx="2210760" cy="459720"/>
          </a:xfrm>
          <a:prstGeom prst="rect">
            <a:avLst/>
          </a:prstGeom>
          <a:gradFill rotWithShape="0">
            <a:gsLst>
              <a:gs pos="0">
                <a:srgbClr val="465e2f"/>
              </a:gs>
              <a:gs pos="100000">
                <a:srgbClr val="99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beros S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4520" y="4391640"/>
            <a:ext cx="3144960" cy="459720"/>
          </a:xfrm>
          <a:prstGeom prst="rect">
            <a:avLst/>
          </a:pr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protoc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1322280" y="5196960"/>
            <a:ext cx="20019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240" y="342756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ow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k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475240" y="4391640"/>
            <a:ext cx="3144960" cy="459720"/>
          </a:xfrm>
          <a:prstGeom prst="rect">
            <a:avLst/>
          </a:pr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protoc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684760" y="5149440"/>
            <a:ext cx="20019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09520" y="5297760"/>
            <a:ext cx="2245680" cy="825480"/>
          </a:xfrm>
          <a:prstGeom prst="rect">
            <a:avLst/>
          </a:prstGeom>
          <a:gradFill rotWithShape="0">
            <a:gsLst>
              <a:gs pos="0">
                <a:srgbClr val="465e2f"/>
              </a:gs>
              <a:gs pos="100000">
                <a:srgbClr val="99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S Kerbero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08680" y="48978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S-A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27080" y="3427560"/>
            <a:ext cx="11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517920" y="4610160"/>
            <a:ext cx="1908000" cy="144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311640" y="5703840"/>
            <a:ext cx="2435040" cy="0"/>
          </a:xfrm>
          <a:prstGeom prst="line">
            <a:avLst/>
          </a:prstGeom>
          <a:ln w="38160">
            <a:solidFill>
              <a:srgbClr val="99cc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830760" y="1851120"/>
            <a:ext cx="690480" cy="750600"/>
            <a:chOff x="3830760" y="1851120"/>
            <a:chExt cx="690480" cy="750600"/>
          </a:xfrm>
        </p:grpSpPr>
        <p:sp>
          <p:nvSpPr>
            <p:cNvPr id="397" name=""/>
            <p:cNvSpPr/>
            <p:nvPr/>
          </p:nvSpPr>
          <p:spPr>
            <a:xfrm>
              <a:off x="4070520" y="1874880"/>
              <a:ext cx="299880" cy="7268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87800" y="2257560"/>
              <a:ext cx="266760" cy="30924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87800" y="200808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30760" y="1852560"/>
              <a:ext cx="539640" cy="3024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30760" y="185256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43520" y="1878120"/>
              <a:ext cx="28440" cy="72360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87800" y="2006640"/>
              <a:ext cx="266760" cy="21744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87800" y="196704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87800" y="190188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30760" y="185112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68720" y="1874880"/>
              <a:ext cx="301680" cy="7268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30760" y="185256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43520" y="187956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43520" y="188892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43520" y="19414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87800" y="190188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043520" y="195732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43520" y="20066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043520" y="22050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87800" y="201780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53120" y="200808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87800" y="200808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40160" y="2200320"/>
              <a:ext cx="12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4087440" y="207324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087440" y="213984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43520" y="225756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43520" y="2536920"/>
              <a:ext cx="326880" cy="3312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87800" y="227340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53120" y="225756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87800" y="251784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87800" y="250488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87800" y="249408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087800" y="2481120"/>
              <a:ext cx="266760" cy="2880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87800" y="2467080"/>
              <a:ext cx="266760" cy="2988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87800" y="1903320"/>
              <a:ext cx="254160" cy="3348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40160" y="192708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49720" y="196704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87800" y="1967040"/>
              <a:ext cx="266760" cy="3780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87800" y="198432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4291200" y="198756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1200" y="1967040"/>
              <a:ext cx="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00760" y="19191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37120" y="1917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73480" y="1917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11640" y="1917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49800" y="1915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84720" y="1913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22880" y="1913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27560" y="200808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68960" y="2498760"/>
              <a:ext cx="152280" cy="712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 flipV="1">
            <a:off x="2573280" y="2614320"/>
            <a:ext cx="1420920" cy="10890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032920" y="172728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ow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D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91320" y="1992240"/>
            <a:ext cx="3047760" cy="825480"/>
          </a:xfrm>
          <a:prstGeom prst="borderCallout2">
            <a:avLst>
              <a:gd name="adj1" fmla="val 18750"/>
              <a:gd name="adj2" fmla="val -8333"/>
              <a:gd name="adj3" fmla="val 13740"/>
              <a:gd name="adj4" fmla="val -20467"/>
              <a:gd name="adj5" fmla="val 319745"/>
              <a:gd name="adj6" fmla="val -39162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SS-Kerb5 Token formats (RFC 196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133520" y="4751280"/>
            <a:ext cx="1006560" cy="368280"/>
          </a:xfrm>
          <a:prstGeom prst="rect">
            <a:avLst/>
          </a:prstGeom>
          <a:gradFill rotWithShape="0">
            <a:gsLst>
              <a:gs pos="0">
                <a:srgbClr val="465e2f"/>
              </a:gs>
              <a:gs pos="100000">
                <a:srgbClr val="99cc66"/>
              </a:gs>
            </a:gsLst>
            <a:lin ang="5400000"/>
          </a:gra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6459480" y="3429000"/>
            <a:ext cx="878040" cy="9064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798120" y="6248520"/>
            <a:ext cx="78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 SSPI - Security Service Provider Interface, GSS - Global Security Service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BAC5C-A3D9-49CE-B008-8721BD1033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Authentication Servic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as part of MIT project Ath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rberos implements an authentication procedure which verifies identity of communication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 algorithm, symmetric key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entication server (Kerberos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GS (Ticket Granting Serv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proves his identity by presenting an encrypted, service-specific ticket (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when issuing a requ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rberos server and Ticket Granting Service (TGS) are assumed to be secure (trusted ho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CFE52-FE2C-429D-BD70-FA81787CFA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principl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4582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rberos requires three main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identifies himself against Kerberos Server (Active Directory), it receives a master ticket (the Ticket Granting Ticket - TG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requests service-specific tickets an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e his identity with the TG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uses service-specific ticket to contact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ion is transparent from user‘s point of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login program acquires TG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lient) Applications transparently acquire service-specific tick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GS-issued tickets and TGT have a default lifetime of eight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3099E-B247-4DDE-9742-EDF8817DC0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principle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4052520"/>
            <a:ext cx="61340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-&gt; KDC: c, tgs,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DC -&gt; Client: {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{T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t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-&gt; TGS: {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{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s,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GS -&gt; Client: {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}K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{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-&gt; Server: {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{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62120" y="1981080"/>
            <a:ext cx="1143000" cy="457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D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09880" y="1981080"/>
            <a:ext cx="1143000" cy="457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T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3124080"/>
            <a:ext cx="114300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3505320"/>
            <a:ext cx="11430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143000" y="2437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95280" y="24382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676520" y="2286000"/>
            <a:ext cx="213336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828440" y="2362320"/>
            <a:ext cx="21337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752480" y="3429000"/>
            <a:ext cx="23623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38080" y="274320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371600" y="274320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362320" y="251460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819520" y="281952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00400" y="335268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81080" y="220968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14960" y="1905120"/>
            <a:ext cx="886320" cy="459000"/>
          </a:xfrm>
          <a:prstGeom prst="rect">
            <a:avLst/>
          </a:prstGeom>
          <a:solidFill>
            <a:srgbClr val="004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Typically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co-loc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492520" y="1828800"/>
            <a:ext cx="3256200" cy="3061800"/>
          </a:xfrm>
          <a:prstGeom prst="rect">
            <a:avLst/>
          </a:prstGeom>
          <a:solidFill>
            <a:srgbClr val="fbf3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:       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client‘s secret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,tgs:  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ey for comm. </a:t>
            </a:r>
            <a:br>
              <a:rPr sz="1800"/>
            </a:b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          between client and T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{T 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,tgs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}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 tgs:   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encrypted ticket</a:t>
            </a:r>
            <a:br>
              <a:rPr sz="1800"/>
            </a:b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      for T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,s:            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ey for client/service</a:t>
            </a:r>
            <a:br>
              <a:rPr sz="1800"/>
            </a:b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              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{T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,s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}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s: 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encrypted ticket </a:t>
            </a:r>
            <a:br>
              <a:rPr sz="1800"/>
            </a:b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for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A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: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authentication in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AF292-D650-4633-891A-FDA49285C1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ickets and Authentication info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beros tickets contain the following 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ress of work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st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time of the ti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ress of the host running the requested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ssion key for client/server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ckets are encrypted with the server‘s private key (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entication info (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contains the following 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ress of work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st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entication info is encrypted with the session key 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25297-4724-40CE-A084-55EB0A3EDF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Version 5 - Window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supported encryption algorithms through Crypto-API foun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s carry info about encryption algorithm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re-used for different encryption algorith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addresses may have arbitrary 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may specify all supported protocols/addresses in ti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data format and encryption are standard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N.1 format (ISO 8824), no special format for multi-byt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ryption based on (ISO 882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ckets contain plaintext s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may support multiple personalities, actual role is chosen on plaintext 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ckets carry starting time and expiration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1C713-F7AA-435A-9D03-6D959AE207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icket Characteristic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DC returns special tickets on initial ticket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sword can only changed with those special tick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ewable tickets may carry two expiration d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valid after first but before second 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ckets may be post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esting for batch 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orization data f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DC copies authorization info from TGT into every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ly generated ti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Kerberos supports public/private key for initial authentication (to obtain TGT via user-supplied private ke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CE161-ED94-43BE-AF1D-B5E05A81010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 E. Russinovich and David A. Solomon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oft Windows Internals, 4th Edition, Microsoft Press,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8, 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ity System Components (from pp. 48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n (from pp. 53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 T.Kohl, B.Clifford Neumann, Theodore Y.Ts’o, The Evolution of the Kerberos Authentication Service, Proceedings of Spring 1991 EurOpen Conference, Tromsø, Nor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pen Software Foundation, Introduction to DC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ntice-Hall, 199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SzPct val="1582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pen Software Foundation, DCE User’sGuide and Reference, Prentice-Hall, 199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4E112-36E8-4185-86AE-8EEF33B28F3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ource Code Referen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Research Kernel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se – Security Reference Mon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inc\se.h – additional structure defin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WRK does not include sources for security processes or network security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E36CD-5762-460E-9853-B5BFCA842E98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7.2.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Security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of the Security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rberos Protocol Principles / Activ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935AF-AA0C-43D3-B6C6-965478AB9C9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Security Mechanism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ssions can be applied to all shareable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ing the NTFS fil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not the FAT fil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rypted File System protects data while OS is off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-authorized physical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 support for Kerberos authent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Key infrastructure to pass digital certific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 Security to protect sensitive data traveling across the w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pto-APIs built into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hing and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FFC4C-A134-4757-897C-35D7AA28C3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he three hearts of Windows Secur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Security Authority (LSA)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local user-mod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 of user authentication on local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SA - on domain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 of user authentication on networked mach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Reference Monit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 of object access prot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17BA6-884C-492D-B4D5-C5E3634914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43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617220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ardware interfaces (buses, I/O devices, interrupts,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val timers, DMA, memory cache control, etc.,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733920"/>
            <a:ext cx="8153640" cy="30456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ystem Service Dispatch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86360" y="6613560"/>
            <a:ext cx="4157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e9900"/>
                </a:solidFill>
                <a:latin typeface="Century Gothic"/>
              </a:rPr>
              <a:t>Original copyright by Microsoft Corporation.  Used by permiss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971800"/>
            <a:ext cx="1143000" cy="533520"/>
          </a:xfrm>
          <a:prstGeom prst="rect">
            <a:avLst/>
          </a:prstGeom>
          <a:solidFill>
            <a:srgbClr val="99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Threa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320" y="2066760"/>
            <a:ext cx="942840" cy="2049120"/>
            <a:chOff x="76320" y="2066760"/>
            <a:chExt cx="942840" cy="2049120"/>
          </a:xfrm>
        </p:grpSpPr>
        <p:sp>
          <p:nvSpPr>
            <p:cNvPr id="102" name=""/>
            <p:cNvSpPr/>
            <p:nvPr/>
          </p:nvSpPr>
          <p:spPr>
            <a:xfrm>
              <a:off x="152280" y="2066760"/>
              <a:ext cx="8668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320" y="3597120"/>
              <a:ext cx="8665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erne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28600" y="2819520"/>
            <a:ext cx="8686800" cy="609480"/>
          </a:xfrm>
          <a:custGeom>
            <a:avLst/>
            <a:gdLst/>
            <a:ahLst/>
            <a:rect l="l" t="t" r="r" b="b"/>
            <a:pathLst>
              <a:path w="5436" h="468">
                <a:moveTo>
                  <a:pt x="5436" y="468"/>
                </a:moveTo>
                <a:lnTo>
                  <a:pt x="792" y="468"/>
                </a:lnTo>
                <a:lnTo>
                  <a:pt x="792" y="0"/>
                </a:ln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3505320"/>
            <a:ext cx="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4520" y="4343400"/>
            <a:ext cx="1602000" cy="3961440"/>
            <a:chOff x="74520" y="4343400"/>
            <a:chExt cx="1602000" cy="3961440"/>
          </a:xfrm>
        </p:grpSpPr>
        <p:sp>
          <p:nvSpPr>
            <p:cNvPr id="107" name=""/>
            <p:cNvSpPr/>
            <p:nvPr/>
          </p:nvSpPr>
          <p:spPr>
            <a:xfrm>
              <a:off x="74520" y="6292800"/>
              <a:ext cx="160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tosKrnl.Ex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 rot="5400000">
              <a:off x="-1218960" y="5790600"/>
              <a:ext cx="396144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743200" y="4343400"/>
            <a:ext cx="60948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 vert="eaVert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g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4038480"/>
            <a:ext cx="1067040" cy="1524240"/>
          </a:xfrm>
          <a:prstGeom prst="rect">
            <a:avLst/>
          </a:prstGeom>
          <a:solidFill>
            <a:srgbClr val="9aa3ad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Windo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USER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GD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4343400"/>
            <a:ext cx="68580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File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System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Cac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4343400"/>
            <a:ext cx="121932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I/O Mg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648320"/>
            <a:ext cx="1067040" cy="121896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4724280"/>
            <a:ext cx="990720" cy="114300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4800600"/>
            <a:ext cx="914400" cy="106668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9144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Device 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File Sy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4343400"/>
            <a:ext cx="60984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 vert="eaVert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lug 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lay Mg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4343400"/>
            <a:ext cx="60948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 vert="eaVert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g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343400"/>
            <a:ext cx="68580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ecurity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Reference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4343400"/>
            <a:ext cx="60948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Virtual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4343400"/>
            <a:ext cx="68580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rocesses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Threa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4343400"/>
            <a:ext cx="685800" cy="122544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oc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4876920"/>
            <a:ext cx="914400" cy="12952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91440" bIns="46800" anchor="t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Graph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23920" y="5562720"/>
            <a:ext cx="7410600" cy="30456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5867280"/>
            <a:ext cx="7925040" cy="304920"/>
          </a:xfrm>
          <a:prstGeom prst="rect">
            <a:avLst/>
          </a:prstGeom>
          <a:solidFill>
            <a:srgbClr val="cc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Hardware Abstraction Layer (HAL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4038480"/>
            <a:ext cx="7086600" cy="3049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(kernel mode callable interfac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4343400"/>
            <a:ext cx="68580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Configura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tion Mg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(registr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520" y="2948040"/>
            <a:ext cx="8734320" cy="2905200"/>
          </a:xfrm>
          <a:custGeom>
            <a:avLst/>
            <a:gdLst/>
            <a:ahLst/>
            <a:rect l="l" t="t" r="r" b="b"/>
            <a:pathLst>
              <a:path w="5502" h="1830">
                <a:moveTo>
                  <a:pt x="5492" y="487"/>
                </a:moveTo>
                <a:lnTo>
                  <a:pt x="5502" y="685"/>
                </a:lnTo>
                <a:lnTo>
                  <a:pt x="4836" y="685"/>
                </a:lnTo>
                <a:lnTo>
                  <a:pt x="4836" y="1599"/>
                </a:lnTo>
                <a:lnTo>
                  <a:pt x="4793" y="1637"/>
                </a:lnTo>
                <a:lnTo>
                  <a:pt x="5194" y="1639"/>
                </a:lnTo>
                <a:lnTo>
                  <a:pt x="5214" y="1827"/>
                </a:lnTo>
                <a:lnTo>
                  <a:pt x="523" y="1830"/>
                </a:lnTo>
                <a:lnTo>
                  <a:pt x="523" y="1638"/>
                </a:lnTo>
                <a:lnTo>
                  <a:pt x="1002" y="1637"/>
                </a:lnTo>
                <a:lnTo>
                  <a:pt x="1002" y="1061"/>
                </a:lnTo>
                <a:lnTo>
                  <a:pt x="357" y="1063"/>
                </a:lnTo>
                <a:lnTo>
                  <a:pt x="357" y="348"/>
                </a:lnTo>
                <a:lnTo>
                  <a:pt x="0" y="338"/>
                </a:lnTo>
                <a:lnTo>
                  <a:pt x="0" y="0"/>
                </a:lnTo>
                <a:lnTo>
                  <a:pt x="715" y="10"/>
                </a:lnTo>
                <a:lnTo>
                  <a:pt x="715" y="486"/>
                </a:lnTo>
                <a:lnTo>
                  <a:pt x="5492" y="487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6360" y="695160"/>
            <a:ext cx="1295280" cy="60984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36e"/>
                </a:solidFill>
                <a:latin typeface="Arial"/>
              </a:rPr>
              <a:t>Win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9040" y="978480"/>
            <a:ext cx="892440" cy="2602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G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16000" y="2492280"/>
            <a:ext cx="0" cy="1254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260360" y="2494080"/>
            <a:ext cx="757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305000"/>
            <a:ext cx="0" cy="118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1015920"/>
            <a:ext cx="2556000" cy="12970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03640" y="134136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Active Direc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79640" y="18446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03640" y="18446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AM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2313000"/>
            <a:ext cx="1729080" cy="32400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VC1_0.d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71640" y="2637000"/>
            <a:ext cx="1729080" cy="32364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beros.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0000" y="1484280"/>
            <a:ext cx="720720" cy="79236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LSA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1871280" y="1254240"/>
            <a:ext cx="863640" cy="3031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58920" y="1952640"/>
            <a:ext cx="6127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16720" y="108900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Event Log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27640" y="123336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932360" y="2276280"/>
            <a:ext cx="0" cy="208908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6720" y="184464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Active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64000" y="2384280"/>
            <a:ext cx="90036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S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148360" y="1989000"/>
            <a:ext cx="576000" cy="433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219280" y="1521000"/>
            <a:ext cx="1297080" cy="612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96360" y="1700280"/>
            <a:ext cx="0" cy="20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D35A9-8FE9-463A-ABFC-F40D7E567D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3776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Security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-mode process (\Windows\System32\Lsass.exe) that implements policies (e.g. password, logon), authentication, and sending audit records to the security event 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SASS policy database: registry key HKLM\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380700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Win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64800" y="4089960"/>
            <a:ext cx="892440" cy="2602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G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57400" y="4056120"/>
            <a:ext cx="2556000" cy="136836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5400" y="44528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Net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9400" y="44528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Active Direc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65400" y="495612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9400" y="495612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AM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57400" y="5424480"/>
            <a:ext cx="1729080" cy="32400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VC1_0.d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57400" y="5748480"/>
            <a:ext cx="1729080" cy="32364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beros.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25760" y="4595760"/>
            <a:ext cx="720720" cy="79236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LSA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2057040" y="4365720"/>
            <a:ext cx="863640" cy="3031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344680" y="5064120"/>
            <a:ext cx="6127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02480" y="420048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Event Log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13400" y="434484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02480" y="495612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Active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49760" y="5495760"/>
            <a:ext cx="90036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S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334120" y="5100480"/>
            <a:ext cx="576000" cy="433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405040" y="4632480"/>
            <a:ext cx="1297080" cy="612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5459F-90D5-4D44-8F62-4CDE654716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SASS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1125000"/>
            <a:ext cx="8458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et of subroutines (\Windows\System32\Samsrv.dll ) responsible for managing the database that contains the usernames and groups defined on the local mach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 database: A database that contains the defined local users and groups, along with their passwords and other attributes. This database is stored in the registry under HKLM\S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sword crackers attack the local user account password hashes stored in the S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: look at SAM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 Lsass.exe process properties – click on services t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Find DLL – search for Samsrv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0B66-7530-472A-B2E6-1B36DCA3A4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SASS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28320" indent="-3283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directory service that contains a database that stores information about objects in a dom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a collection of computers and their associated security groups that are managed as a single ent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ctive Directory server, implemented as a service, \Windows\System32\Ntdsa.dll, that runs in the Lsass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ion packa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LLs that run in the context of the Lsass process and that implement Windows authentication polic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Man: \Windows\System32\Msvc1_0.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rberos: \Windows\System32\Kerberos.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gotiate: uses LanMan or Kerberos, depending on which is most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3E052-D06C-4B82-9479-C6B6FD1BFD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13:34:45Z</dcterms:created>
  <dc:creator>David A. Solomon, Mark E. Russinovich, and Andreas Polze</dc:creator>
  <dc:description/>
  <cp:keywords/>
  <dc:language>en-US</dc:language>
  <cp:lastModifiedBy>David Solomon</cp:lastModifiedBy>
  <dcterms:modified xsi:type="dcterms:W3CDTF">2006-02-06T18:39:33Z</dcterms:modified>
  <cp:revision>27</cp:revision>
  <dc:subject>Windows Operating Systems Internals Course</dc:subject>
  <dc:title>Unit OS7: Windows Security Components and Concepts</dc:title>
</cp:coreProperties>
</file>