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DC98-BAD2-4EC4-9858-C495D585CF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is found in the Administrative Tools folder on the Start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via Control Panel). The Performance tool has three functions: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, viewing performance counter logs, and setting alerts. For simplicity, when 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 to the Performance tool, we are referring to the System Monitor function within the to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an provide more information about how your system is operating t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other single utility. It includes hundreds of counters for various objects. For each maj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ic described in this book, a table of the relevant Windows performance counters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ontains a brief description for each counter. To see the descrip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a counter in the Add Counter window and click the Explain button. Or open th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er Reference help file in the resource kit. For information on how to interpr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ounters to detect bottlenecks or plan capacity, see the section “Performance Monitor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Windows 2000 Server Operations Guide, which is part of the Windows 2000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 Kit. These chapters provide an excellent description to anyone seriously inter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understanding Windows performance. For Windows XP and Windows Server 2003 , s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indows Server 2003 Resource Kit Performance Counters Reference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vailable online at www.microsoft.com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gistry is the mechanism to access performance counter values on Windows, wh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se are from operating system components or server applications. One of the side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roviding access to the performance counters via the registry is that remot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 works “for free” because the registry is easily accessible remotely through the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 AP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ccess the registry performance counter information directly by opening a special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d HKEY_PERFORMANCE_DATA and querying values beneath it. You won’t find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by looking in the Registry Editor; this key is available only programmatically through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 registry functions, such as RegQueryValueEx. Performance information isn’t act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d in the registry; the registry functions use this key to locate the information from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provid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lso access performance counter information by using the Performance Data Hel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DH) functions available through the Performance Data Helper API (Pdh.dl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F8E2-C34C-4033-B358-6010AD66F4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1400" cy="4216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Microsoft Notepad utility (Notepad.ex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the Performance tool by selecting Programs from the Start menu and then  selecting Performance from the Adminstrative Tools men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hart view if you’re in some other vi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he Add button on the toolbar to bring up the Add Counters dialog bo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process performance object, and then select counter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privileged time/user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Click the Explain button to see the definition of th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Instances box, scroll down until you see the Notepad process (notepad/0);  select it, and click the Add butt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un TaskManager.exe, display kerne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s (globally unique identifi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I - Windows Management Instr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presents general approaches to performance evaluation and prediction which are then discussed in context of the Windows 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articular, we discuss performance monitor and Microsoft Management Console (mmc) tools which allow for investigation and monitoring of a multitude of performance counters throughout the system. After presenting an overview on performance counters, scheduling- and memory-related performance counters are discussed in some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ussion of Event Tracing for Windows (ETW) and the corresponding system logging mechanisms concludes thi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843B-2B89-401C-AD42-8936BAE4A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0490-5730-4511-905D-2571F2656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53C3-8569-40ED-9863-5C96DABF8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36686-CDF1-46AC-B193-D1413DD46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B23C-0564-4342-A6B0-10E5F302D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DD3C-DD51-4E4E-BDFE-F2FACF7F0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1C2F-9C55-453B-BC59-0AD83701F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2F770-F464-46DF-9A87-BE0206BA2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4D743-0222-412C-B342-F0FB181FB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2DED4-A197-475A-98CD-B95EA8D1F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E361-5FF0-4CA6-A171-C143FDB33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FB00C-2AB2-4A98-846B-74F527251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3526-F8E0-440F-87BD-696B0445E4E7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493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1: Performance Evalu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1. System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tain System Inform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Process Explor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View-&gt;System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943600" cy="45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466E-D789-42D2-A591-DEA9753F86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verview of Performance Data Collection</a:t>
            </a:r>
            <a:br>
              <a:rPr sz="4000"/>
            </a:b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defines performance data in terms of objects, counters, and in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rformance object is any resource, application, or service that can be mea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Monitor and Performance Logs and Alerts allow to select performance objects, counters, and instances to collect and present performanc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have performance coun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may also have instances, which are unique copies of a particular objec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ll object types support multiple in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Total instance represents the sum of the values for all instances of the object for a specific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FD6BF-1C29-4FF9-BDC4-0511ADFEDB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st Array of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4170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6FCA-311B-4BAB-A496-BE576B65EC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Counter Aggregation into Performance Logs (via mmc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453F-835C-43B4-9C1D-5014241E21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al-time Data Collection with Performa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6120" y="1625760"/>
            <a:ext cx="7510320" cy="46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4B8F-66B6-4D80-AF40-985735EC854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Memor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Working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Privat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7B3A0-10EB-49FE-B032-55B2AE05A1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Physical and Logical Disk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% Disk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Current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D38E-E74C-410C-9885-535FD08887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Network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Segment\ % Network Ut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B705-1764-4C3B-A37D-51B14FD7A8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nalyzing Processor Activ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baseline on normal workload (from several weeks to a mon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Idle process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dle process runs a thread on each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easure the Idle process, use the Process(Idle)\ % Processor Time counter, or Processes tab in Task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idle time could mean that the processor is handling a lot of work, but it could also mean that the processor or central processing unit (CPU) is overloa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7A95-F003-4A14-AA4A-C97A64852E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Processor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bottlenecks are indicat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often exceeds 80 percent (and there is no compute-bound work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 Processor Queue Length is often greater than 2 on a single-processo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ue Length is the single most important par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d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usually high values appear for the Processor(_Total)\ Interrupts/sec or System\ Context Switches/sec co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89D1-00F7-4A0A-A859-7028788AC1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7FC2-1BA8-4F05-8BC8-3C555027572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valuating Memory Usag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reference point (or baseline) for physical memory usage under normal work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logs of memory usage over an extended period (from several weeks to a mon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vant Performance Cou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Paging File(_Total)\% U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de spikes; the range of values that seem to appear consistently constitutes you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F401-CA4B-4552-8AF7-A7D3314EEF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Memory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 for insufficient mem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f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consistently low (e.g. less than 5% of R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vailable memory is consistently low, the computer becomes unresponsiv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occupied exclusively with disk I/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aging due to low memory, the processor is idle while waiting for the disk to fi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0B56-3C22-4A15-8AE5-CDC991019F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Examining Disk Perform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disk counters along with counters from other objects. The following is a list of recommended cou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Disk\% Free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Cach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Pag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(All_Instances)\% Process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CF30-9305-4D35-9CDF-4EF270F9F0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a Disk Bottlenec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g. Disk Queue Length for LogicalDisk or Physical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value of Avg. Disk Queue Length exceeds twice the number of spindles, then you are likely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volume set, a queue that is never shorter than the number of active physical disks indicates that you are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at this might overstate the true length of the queue, because the counter includes both queued and in-service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1DADC-6187-49CE-983D-8B984AEEB4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unters by Fea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Inform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e Server 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T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et Information Services Glo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 Fil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dexing Servi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 Queu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Que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25280"/>
            <a:ext cx="40384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9807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y of Service (QoS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Interf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ing and Remote Access (RR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To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Replic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Co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inal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minal Services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Directory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" y="990720"/>
            <a:ext cx="61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services and apps may bring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wn performance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ED20-8D8A-420E-A0C1-FC2F970D15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Event Trac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kernel and core device drivers are instrumented  to record trac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Tracing for  Windows (ETW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infrastructure in the kernel that provides trace data to the user-mode fac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is access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l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start and stop logging sessions and manages buffer p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define GUIDs for the event classes they can produce traces for; act on Controllers’ comm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lect one or more trace sessions for which the want to read  trace data (in real-time or in log fi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FA20-7A7A-4791-8650-E3BF60A049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TW Providers and Kernel Lo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systems include several built-in providers in user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, Kerberos, and Net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defines a logging session with the name NT  Kernel Logger (kernel logger) for use by the kernel and core driv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Kernel Logger provider is implemented in the ker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92B4-7C77-4BFD-981F-3C5DD0CFC9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er mode controllers may enable kernel logger - ETW Oper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W library sends I/O control request to the WMI driver to enable tracing on a particular event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W library is implemented in \Windows\System32\Ntdll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file logging is configured the WMI driver creates a system thread in system process that creates a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ernatively, logging may use an in-memory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MI driver records trace events to a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ogging thread  wakes up once per second to dump the contents of the buffers to the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e records generated for the kernel logger have a standard ETW trace event 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er records timestamp, process, and thread IDs, info on event cla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 classes can provide additional data specific to their ev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EAB3-C2E6-42C4-8A0D-6389027B16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race and Logging Data may be accessed via mmc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1562040"/>
            <a:ext cx="6959520" cy="52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E3FD-6F12-4AB2-BDB3-EF7261640A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Logger Trace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s classes and their generating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I/O - disk class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 I/O - file system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Configuration - plug&amp;pla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 Load/Unload - system image loader in the kern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 Faults - memor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d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 Activity - Configur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/UDP Activity - TCP/IP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controllers/providers described in Platform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7129-391C-44F7-B1A6-39192B8B89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1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Evaluation and 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for Monitoring Windows Inte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onitor and m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Event Tra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588D1-FB88-4EC5-A709-380F81D2CAD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ing Event Logs and Performance Counters for Optimiz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ust be tuned to a work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quence of service requests, commands, I/Os that exercise th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oduced by workload generators rather than real-world service pro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for replay or generation of service requests at a maximum rate so that bottlenecks can be identified in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orkloads are domain-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TPC benchmarks an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optimal” system configuration per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33D3-4E05-4347-8C93-5049C2E7E3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1 - Concepts and Too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Tool, Support Tools,  Resource Kits, pp. 25-3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4 - Management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Management Instrumentation, pp. 237-2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Tracing for Windows, pp. 177-1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Performance Counter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counter/default.as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A2CB-53A9-475D-9265-6E16CEAC364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perf – core performance logging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sysinfo.c – system/process performance query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1749-D3A3-4A7E-A9BE-0F78B965DE68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Prediction and Evaluation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ng a model of the system and then using the model to predict the system's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reflects system structure or organization as well as its workload o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d using mathematical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, the model may be sim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 &amp;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behavior of a liv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fine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37A2-1928-4AE3-8543-2370E925A6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deling Approach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techn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- and continuous-time Markov 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ueing theory, and queueing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 methods based on these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al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tochastic, measurement-based perspective to the analysis of comput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ed with discrete-event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metrics from stochastic simulations are subject to statistical analysis (as are data obtained from real 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D204-5726-462D-B036-7373570210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lidity of Mode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, whether analytic or simulation, can be inaccurate or implemented incorrec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mportant aspect of any kind of performance modeling study is to validate the model and its implementation to whatever extent i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way to do this is to study a system using more than one model, e.g., a simulation model and an analyt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of many systems is computationally dem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763A7-5B75-428B-99FE-C012C2588F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nitoring Windows -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to obtain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is thoroughly instrumen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counters allow for monitoring of most kernel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tools available to dig into Windows inter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s to see internals behavior “in actio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sources of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 Ki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ugging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internal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tool packages with internals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 Software Development Kit (S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Driver Development Kit (D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E66E-C8B2-4458-AF07-6D7CF04165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447920"/>
            <a:ext cx="86868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 Nam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g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View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 debugger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BG, 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, Platform SDK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DD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 Kernel Debugg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n Handl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 Fault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F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Resource kits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tform S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ing File 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to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MON.MSC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D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Explor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XP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Statistic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STA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2000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, Platform SDK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reskit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 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2000 resource kit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(Process) 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Manag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MG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ools for Windows Performance Monitor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74BE-E3EE-4EAE-BB26-50BF43EC89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(Sysinternal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143000"/>
            <a:ext cx="55627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performance-related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s full image path, command line, environment variables, parent process, security access token, open handles, loaded DLLs &amp; mapp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80880" y="2743200"/>
            <a:ext cx="7696440" cy="39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91320" y="1066680"/>
            <a:ext cx="311148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AD2B-DA41-4602-8EDC-8EE543AB3BF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0:41Z</dcterms:modified>
  <cp:revision>110</cp:revision>
  <dc:subject>Windows Operating Systems Internals Course</dc:subject>
  <dc:title>Unit OS 11: System Performance Evaluation</dc:title>
</cp:coreProperties>
</file>