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0E35-162E-4EC4-A363-167192F481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consists of four main components, as shown in Figure 4-19: management appl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infrastructure, providers, and managed objects. Management applications are Wind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that access and display or process data that the applications obtain ab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d objects. A simple example of a management application is a Performance t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ment that relies on WMI rather than the Performance API to obtain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. A more complex example is an enterprise-management tool that lets administr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 automated inventories of the software and hardware configuration of e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uter in their enterpri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MI infrastructure, the heart of which is the Common Information Model (CIM) 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r (CIMOM), is the glue that binds management applications and providers. (CIM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bed later in this chapter.) The infrastructure also serves as the object-class store and,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y cases, as the storage manager for persistent object properties. WMI implement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e, or repository, as an on-disk database named the CIMOM Object Repository. As p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infrastructure, WMI supports several APIs through which management applications a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data and providers supply data and class definitio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s programs use the WMI COM API, the primary management API, to directly inte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 WMI. Other APIs layer on top of the COM API and include an Open Database Conne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DBC) adapter for the Microsoft Access database application. A database develo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s the WMI ODBC adapter to embed references to object data in the developer’s databa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the developer can easily generate reports with database queries that contain WMI-ba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. WMI ActiveX controls support another layered API. Web developers use the Activ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s to construct Web-based interfaces to WMI data. Another management API i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scripting API, for use in script-based applications and Microsoft Visual Basic program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scripting support exists for all Microsoft programming language technolog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they are for management applications, WMI COM interfaces constitute the primary API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rs. However, unlike management applications, which are COM clients, providers 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 or Distributed COM (DCOM) servers (that is, the providers implement COM ob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WMI interacts with). Possible embodiments of a WMI provider include DLLs that 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o WMI’s manager process or stand-alone Windows applications or Windows servi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includes a number of built-in providers that present data from well-known sourc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the Performance API, the registry, the Event Manager, Active Directory, SNM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s Driver Model (WDM) device drivers. The WMI SDK lets developers develop thirdpar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provid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ction discusses the scripting mechanisms (Windows Scripting Host, VBScript, Windows Management Instrumentation Scripting, Services for Unix, etc) available in Windows and uses a number of case study scenarios to compare those with UNIX scrip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more, the reader is encouraged to familiarize himself with the Windows way of accessing and administering OS functionality through GUI-based tools. However, those used to the command line style of programming and administration commonly found in other environments will find (nearly) all the typical tools at four different pl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XP/2000 CD \Support\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Resource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Services for UNIX and the Interix subsystem (with a complete POSIX subsystem and an enormous amount of GNU tools compiled for the Windows 2000 platfor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5AD9-2EBD-4105-A0D1-7C377D1648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ttle Softway his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y Systems was started in September 1995 concurrent with a unique source license from MS that enabled Softway to take the MS POSIX subsystem (which was a GREAT proof-of-concept), and make it real in INTE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ftway were done they had shipped ~40,000 paid s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was originally shipped under the technology brand of “OpenNT”.  It was rebranded as INTERIX in the Spring of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y had strategic relationships with Dell (every government workstation and server were bundled with Softway INTERIX Workstation-Lite) and UNISYS for certain government plat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UNIX applications and scripts on Windows NT” means that one recompiles the source code of any programs as a native NT binary that behaves correctly (as if it was UNIX).  This is not a binary emulation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set of slides is based on a presentation given by Stephen R. Walli, Interix Product Unit Manager, Microsoft, at the TechEd 20000 conference in Amsterdam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285C-ED48-4630-93F0-CB95E2E152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4640" cy="4217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sh, csh with full job 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 300 utilities, including scripting tools such as awk, sed, perl, Tcl/T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D sockets mapped to Winsoc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 mapped fi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VID IPC mechanisms: semaphores, message queues and shared memo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eudo-terminal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or curses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ility to exec Win32 applications from Interi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ll tty semantics mapped to console window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eudo terminal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e link support, true case sensitive file nam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ll integration with Windows NT security model, administration, file systems, networking and print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ort for POSIX.1 and POSIX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11R5 clients such as xterm, twm, xrdb, and xlsclie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ort for daemons running as Windows NT servic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user login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etd, telnetd, rlogind, rshd, syslogd, talkd, ftpd and their clien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on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grated tape device sup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D094-562B-4D1F-8E98-0077967783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4640" cy="4217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ftware development kit (SDK) included with Interix 2.2, makes it easy to migrate existing UNIX-based applications to the Interix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5A08-B4A9-4419-BFD6-9A6DCAC4B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422A4-1FF6-48EE-873F-01466557B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4417-85D8-46DD-866A-A715BFD0C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3BE6-8518-4D52-BF9D-CFB13AF59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B4469-0848-4A4A-A73D-A9D08A948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28DE-FE57-4EC3-9466-B1200B5CA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3FE9-59DC-4795-9017-8D95BCEBE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9447-6CC3-4889-9A8C-8E273C363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04F0-9830-4182-998F-F96F6FA29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F493-8971-42AB-AD23-080AB9214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C57F-84C8-4148-835C-3EDE45D9D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E61F4-8BC8-4C8B-AB2F-2224509DC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674F-BBAB-40CE-8EDD-F41A2E1D3CEB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2: Scripting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.1. Windows Management Instr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 Monitoring Infrastructure: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a historical view - before WMI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wo native system monitoring mechanisms that have been in NT since its incep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Mon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can work remotely, but suffer several drawbacks with respect to general system manag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 groups of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direc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to only performance data and event 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0A80-ABD8-4EDC-A149-C4A302A34E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 Management Infrastructure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a historical view - before WMI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T management mechanis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 Control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change configuration, but no notifications/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anaging computer membership in dom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rying computer OS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guring user and group accou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ations of the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general: limited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’t manage all aspects of a computer’s system configuration, software, or hardware devices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natively scriptable, Non-exten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D9A8-4E3B-4ADE-9864-269C5A0911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’s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locally and remo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e-gr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directio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MI “provider” can export functional interface and event notification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rs can write their own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writers can leverage WMI-provider framework, called the WDM provider, to management-enable their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ly scrip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natively .NET programmable when .NET Framework is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DFAE-D028-4FFB-BC17-02D9D6EBB0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Architecture - a closer loo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3716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Database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13716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eb brow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37160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/C++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2860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ODBC (deprecat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2860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ctiveX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ontr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200400"/>
            <a:ext cx="579132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dows Management A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191120"/>
            <a:ext cx="365760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IM Object Manager (CIMO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191120"/>
            <a:ext cx="152388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IM reposi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1814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SNMP 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1814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32 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18148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Registry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60958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SNMP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60958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32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609588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Registry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819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2819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19051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733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952880"/>
            <a:ext cx="426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724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952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952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8360" y="380988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/D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8360" y="472428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/D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13716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ment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191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MI 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5257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6095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d ob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E8C4-FB07-47F4-A39F-A6E822701C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Archite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 applic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applications that access and display or process the data that they obtain about managed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. Perfmon or event viewer replac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ed as a Windows Service: Winmgmt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s heart is the CIM Object Manager (CIMO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ue that binds management applications to 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serves as object-class store, and as storage for persistent object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rastructure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ary API is 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s layer on top of COM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DBC adap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MI ActiveX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ripting A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9073-113A-4983-B0B8-512452A24E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Managed Resour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3818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 or physical component, which is exposed and manageable by using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s, peripheral devices, event logs, files, folders, file systems, networking component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 subsystems, performance counters, printers, processes, registry, security, services, shar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 users and groups, Active Directory, Windows Installer, Windows Driver Model (WDM) device drivers, SNMP Management Information Base (MI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MI managed resource communicates with WMI through a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7E60-401B-4F05-AFBA-91D91A13F3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Infrastru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dle layer is the WMI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for definition of and accessed to configuration and managemen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consists of three primary compon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IM Object Manager (CIMOM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mon Information Model (CIM) repositor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ing library is a fourth, small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DE26-917E-4552-9967-9DE5A8FF6B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ediary between WMI and a managed resour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 information from, and send instructions to WMI managed resources on behalf of consumer applications and scri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the implementation details unique to a managed resour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d resource is exposed based on WMI's uniform access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providers use managed resources’ native APIs, and communicate with the CIMOM using WMI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0A2B-E24A-487B-8BFE-B0B3B36E2A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ble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-on providers can expose management functions unique to a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Center, Operations Manager, Systems Management Server, Internet Information Server, and SQL Server, Exchange Server, Microsoft Office, and many 3rd-party applications include WMI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are implemented as DLLs or stand-alone execu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ing in %SystemRoot%\system32\wb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includes many built-in providers for Windows: Performance API, Registry, Event Manager, Active Directory, SNMP, WDM,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SDK lets third-parties develop prov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6BE7D-A0D9-4D80-9421-D6ADD14879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providers are COM or DCOM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rt objects that have properties and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classes that are stored in CIMOM reposi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xecutes in-process providers (as opposed to those in dedicated application processes) in a separat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s corruption of the RPC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cess is placed in a Job to limit resource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5129-7B5F-4E8F-B143-4B9413CFE7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D952-59F6-4DDC-BF13-248E15BF2CB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ist of Standard WMI Provid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1143000"/>
          <a:ext cx="9144000" cy="5451480"/>
        </p:xfrm>
        <a:graphic>
          <a:graphicData uri="http://schemas.openxmlformats.org/drawingml/2006/table">
            <a:tbl>
              <a:tblPr/>
              <a:tblGrid>
                <a:gridCol w="1676520"/>
                <a:gridCol w="1218960"/>
                <a:gridCol w="1676520"/>
                <a:gridCol w="457200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p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Directory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s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directory\lda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s Active Directory objects to W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Log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tevt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 Windows event logs, for example, read, backup, clear, copy, delete, monitor, rename, compress, uncompress, and change event log setting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Counter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emperf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raw performance dat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stry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d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defau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, write, enumerate, monitor, create, and delete registry keys and valu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MP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mpincl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snm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SNMP MIB data and traps from SNMP-managed devic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DM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mi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wm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information on WDM device driv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32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mwin32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information about the computer, disks, peripheral devices, files, folders, file systems, networking components, printers, processes, security, services, shares, et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 Installer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i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information about installed softwar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9871-8300-4540-A744-B433F8B5CA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O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nformation bro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WMI requests and data flow through the CIM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ed inside Windows Management Instrumentation service, winmgmt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OM provides core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r reg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ry processing  - WMI Query Language (W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CCA3-FD6B-45F5-A939-33EC844675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 Reposito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ation and management information from different sources can be uniformly represented with a sch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IM is the schema, also called the object repository or class store that models the managed environment and defines every piece of data exposed by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 classes generally represent dynamic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ces of resources can be stored in the CIM, but are generally dynamically retrieved by a provider based on a consumer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94359-CC95-445B-9F0F-534D8DC2C1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 Cl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 classes consist of properties and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erties describe the configuration and state of a WMI managed 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s are executable functions that perform actions on the WMI managed 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Windows XP CIM consists of the following files in %SystemRoot%\system32\wbem\Repository\FS\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.btr - Binary-tree (btree) index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.map - Transaction control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.data - CIM repository where managed resource definitions are sto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.map - Transaction control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D2290-0417-4A7D-B667-BFC046D77F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ing Libra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of automation obj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ing languages, such as VBScript, Jscript, and ActiveState's ActivePerl access the WMI infrastructure via these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a consistent and uniform scripting model for the 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ing library is implemented in a single DLL named wbemdisp.dl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es in %SystemRoot%\system32\wbem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a type library named wbemdisp.tl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scripting type library can be used to reference WMI constants from XML-based Windows Script Files, WSH scripts with a .wsf ex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C175-C121-4B02-B285-7CE0EBB4D7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Consum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s are the top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sumer is a script, enterprise management application, Web-based application, or other administrative tool, that accesses and controls management information available through the WMI infra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management applications serve dual roles as both WMI consumer and WMI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Center, Operations Manager, and Systems Management Server are 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391E0-6A61-4983-B55C-EC506DD2CF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ploring the CI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Control (wmimgmt.msc) is a Microsoft Management Console (MMC) snap-in that allows you to configure WMI settings on a local or remote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Tester (wbemtest.exe) is a general-purpose, graphical tool for interacting with the 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 into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can use WMI Tester to browse the CIM schema and examine managed resource class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Tester can also be used to perform the same actions your WMI-based scripts perform, such as retrieving instances of managed resources and running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47253-AE67-4818-B7CF-1651FDD9930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ploring the CIM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Command-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d as part of Windows XP Professional and Server 2003, the WMI Command-line tool (wmic.exe) provides a command line interface to the WMI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an use wmic.exe to perform common WMI tasks from the command line, including browsing the CIM and examining CIM class defin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M St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 Studio, part of the WMI SDK, provides a Web-based interface to interact with the WMI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et Scri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umClasses.vbs, EnumInstances.vbs, and EnumNamespaces.v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et Script Center - http://www.microsoft.com/technet/community/scriptcenter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29FF-A365-481E-BC19-4C684AFCB2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popular interface is the scripting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need for third-party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like stand-alone utilities, but easily modif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cript.exe is the command-line interface to Windows Script Host (WS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cript scriptname.extension [options..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help, type Cscript /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et Scripting Center has more than hund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Basic scripts that use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microsoft.com/technet/community/scriptcenter/default.m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start a process on a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8400" indent="-23436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script exec.vbs /s servername /e notep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62F7B-5D32-4D40-8444-4A5B973CCA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 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Remote Process Execu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rpt from exec.vb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03680" y="305424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0240" y="2057400"/>
            <a:ext cx="786168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blnConnect("root\cimv2"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UserName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Password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Server  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bjService  )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all Wscript.Echo("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all Wscript.Echo("Please check the server name, "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amp; "credentials and WBEM Core.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Message = "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ProcessId = 0Set objInstance = objService.Get("Win32_Process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blnErrorOccurred(" occurred getting a " &amp;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" Win32_Process class object.") Then 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objInstance is nothing Then 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Status = objInstance.Create(strCommand, null, null, intProcess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F213-41D2-4D79-9FEE-EB647DFD2D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2.1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Management Instrumentation (WM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View on Window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 Scripting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-base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X Scripting Support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E99BC-1D10-4299-9C9C-EC75CF62FF0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Obtain physical memory siz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rComputer = ”fin”  # target computer’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wbemServices = GetObject("winmgmts:\\" &amp; strCompu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wbemObjectSet = wbemServices.InstancesOf("Win32_LogicalMemoryConfiguration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wbemObject In wbemObject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cript.Echo "Total Physical Memory (kb): " &amp; wbemObject.TotalPhysical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F1DEE-5029-4027-A4AE-B5D48CB402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Retrieve services inform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rComputer = ”fin”  # target computer’s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t wbemServices = GetObject("winmgmts:\\" &amp; strCompu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t wbemObjectSet = wbemServices.InstancesOf("Win32_Service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Each wbemObject In wbemObject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Script.Echo "Display Name:  " &amp; wbemObject.DisplayName &amp; 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vbCrLf &amp;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  State:      " &amp; wbemObject.State       &amp; 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vbCrLf &amp;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  Start Mode: " &amp; wbemObject.Start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1B2A-09E5-47B0-ABC0-E24F712202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63280" y="3805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bemtest Util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1305000"/>
            <a:ext cx="4343400" cy="3705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733920" y="3294000"/>
            <a:ext cx="4467240" cy="2698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32000" y="2708280"/>
            <a:ext cx="2376360" cy="792000"/>
          </a:xfrm>
          <a:prstGeom prst="line">
            <a:avLst/>
          </a:prstGeom>
          <a:ln w="38160">
            <a:solidFill>
              <a:srgbClr val="99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45DE-925B-452D-BAEC-773FE6CF56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ices for UNIX -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ix Subsystem for Window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ix - a full POSIX subsystem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ix replaces the original POSIX subsystem on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network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operability between POSIX and Windows subsystems (CreateProcess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 for UNIX (SFU 3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ndled with many essential UNIX tools (X11R5 clien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ix allows to run UNIX applications and scripts on Windows (after re-compil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9BD5-39F9-4BC4-A655-28B218A75F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ices for Unix + Interix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3059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te environment to run UNIX applications and scripts on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y integrated with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300 utilitie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te software development 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for more than 1900 UNIX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FU is freely downloadable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microsoft.com/windowsserversystem/sfu/download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D8A4-57FD-43A4-9005-47D7317F01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FU 3.5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ls: KornShell and C Sh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languages: awk, perl, sed, and Tcl/T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 tools: rsh, rlogin, telnet and x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ch tools: At, cron and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BB4D-4F0D-4E3A-A103-0E36A49C64E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FU 3.5 SD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for 1900+ interfa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I C, POSIX.1 and POSIX.2 interfa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tools: make, RCS, lex, yacc, cc, c89, nm, ar, str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ilers: gcc, g++, g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 curses libr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D-style sockets library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1R5 libraries and header fi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 Visual C/C++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B41B9-3F7F-4BBF-B857-5682778FF5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ain Lissoir, Understand Windows Management Instrumentation (WMI) Scripting, Digital Press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ain Lissior, Leveraging Windows Management Instrumentation (WMI) Scripting, Digital Press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reg Stemp, Dean Tsaltas, and Bob Wells (Microsoft Corporation)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than Wilansky (Network Design Group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-BoldMT"/>
              </a:rPr>
              <a:t>WMI Scripting clin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Management Instrumentation (from pp. 23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MI Software Developers Kit (SDK) Docu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s about UNIX scripting on Windows in Unit OS-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97FCE-4285-4E8D-9323-F80140EAB9E1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cripting Introduc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cript is a sequence of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a program, but its not comp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s are dynamically interpreted by a scripting eng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scripts are plain-text source and not compiled, they are easy to change and to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4CF98-8C9D-4FB3-AD24-21E5A98979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cripting Suppor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support requ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ngine that reads the scripting language and interprets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 via the scripting engine to interactive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includes an extensible scripting eng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ly supports VB (Visual Basic) and J (Java) scr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rich interaction with operating system environment via Windows Management Instr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8E35F-1C1F-4C48-A242-31F6FBA568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Verdana"/>
              </a:rPr>
              <a:t>Microsoft Windows Management Instrumentation (WMI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MI is the core management-enabling technology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ilt into Windows 2000, Windows XP, and Windows Server 200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iginally released in 1998 as an add-on with Windows NT 4.0 Service Pack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ed on industry standa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seen by the Distributed Management Task Force (DMT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most all Windows resources can be accessed, configured, managed, and monitored via W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5888C-2F56-44E9-9A6A-33980CDD8A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Background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5345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s an implementation of Web-Based Enterprise Management (WBEM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a standard that the Distributed Management Task Force (DMTF) def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was added to address two short-comings in previous versions of 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monitoring 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s in Windows 2000 and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on for NT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version available Win9x/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06C8-E6B3-478B-8828-0A1BB60B91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pplicability of WMI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-based scripts using COM auto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cript Host / VBScript / ActivePe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-in WMI tool with XP (except Home Edition) and Server 2003: WMI Console (WMIC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helps to retrieve performance data, manage event logs, file systems, printers, processes, registry settings, scheduler, security, services, shares, and numerous other operating system components and configuration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-based scripts can manage network services such as DNS, DHCP, and SNMP-enabled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0784-90D8-43BB-A926-2BDF03036E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pplicability of WMI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4720" indent="-324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health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vent subscriptions can monitor and respond to event log entries as they occur, file system and registry modifications, and other real-time operating system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vent subscriptions and notifications are to WMI what SNMP traps are in the SNMP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rv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s can manage Microsoft Application Center, Operations Manager, Systems Management Server, Internet Information Server, Exchange Server, and SQL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0C3F-0A6D-4072-9733-D63C6BE54E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cp:lastPrinted>2005-12-20T20:50:16Z</cp:lastPrinted>
  <dcterms:modified xsi:type="dcterms:W3CDTF">2006-02-07T23:51:05Z</dcterms:modified>
  <cp:revision>116</cp:revision>
  <dc:subject>Windows Operating Systems Internals Course</dc:subject>
  <dc:title>Unit OS 12: Scripting</dc:title>
</cp:coreProperties>
</file>