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.png" ContentType="image/png"/>
  <Override PartName="/ppt/media/image3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283E-4705-47F9-874F-2F6127773A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FS writes update records with physical descriptions. Transaction-processing or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-level software might benefit from writing update records in logical terms, howev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logically expressed updates are more compact than physically expressed on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ical descriptions necessarily depend on NTFS to understand what operations such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eting a file invol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FS writes update records (usually several) for each of the following transaction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rea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Dele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Extend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Trunca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etting file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Renam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hanging the security applied to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edo and undo information in an update record must be carefully designed beca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though NTFS undoes a transaction, recovers from a system failure, or even operates normall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might try to redo a transaction that has already been done or, conversely, to undo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action that never occurred or that has already been undone. Similarly, NTFS might try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o or undo a transaction consisting of several update records, only some of which ar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disk. The format of the update records must ensure that executing redundant redo 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do operations is idempotent, that is, has a neutral effect. For example, setting a bit tha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ready set has no effect, but toggling a bit that has already been toggled does. The fil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 also handle intermediate volume states correct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point records In addition to update records, NTFS periodically writes a chec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 to the log file. A checkpoint record helps NTFS determine what processing would be needed to recover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ume if a crash were to occur immediately. Using information stored in the chec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, NTFS knows, for example, how far back in the log file it must go to begin its recove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writing a checkpoint record, NTFS stores the LSN of the record in the restart area so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can quickly find its most recently written checkpoint record when it begins fil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very after a crash occu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indows boot process doesn’t begin when you power on your computer or pres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button. It begins when you install Windows on your computer. At some point dur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on of the Windows Setup program, the system’s primary hard disk is prepar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that takes part in the boot process. Before we get into what this code does, let’s look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 and where Windows places the code on a disk. Since the early days of MS-DOS, a stand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existed on x86 systems for the way physical hard disks are divided into volu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perating systems split hard disks into discrete areas known as partitions and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 systems (such as FAT and NTFS) to format each partition into a volume. A hard disk 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in up to four primary partitions. Because this apportioning scheme would limit a di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four volumes, a special partition type, called an extended partition, further allocates up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 additional partitions within each primary partition. Extended partitions can con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ended partitions, which can contain extended partitions, and so on, making th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volumes an operating system can place on a disk effectively infinit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disks are addressed in units known as sectors. A hard disk sector on an IBM-compat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is typically 512 bytes. Utilities that prepare hard disks for the definition of volu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ing the MS-DOS Fdisk utility or the Windows Setup program, write a sector of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ed a Master Boot Record (MBR) to the first sector on a hard disk. The MBR includes a fixed amount of space that contains execu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s (called boot code) and a table (called a partition table) with four entries that def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locations of the primary partitions on the disk. When an IBM-compatible computer boot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irst code it executes is called the BIOS, which is encoded into the computer’s RO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OS selects a boot device, reads that device’s MBR into memory, and transfers contro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in the MB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BRs written by Microsoft partitioning tools, such as the one integrated into Wind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up and the Disk Management MMC snap-in, go through a similar process of reading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control. First, an MBR’s code scans the primary partition table until it locates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ition containing a flag that signals the partition is bootable. When the MBR finds at le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e such flag, it reads the first sector from the flagged partition into memory and transf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 to code within the partition. This type of partition is called a boot partition,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rst sector of such a partition is called a boot sector. The volume defined for the boot part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alled the system volu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tandard BIOS implementations that x86 hardware uses dictate one requirement of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ing format in Windows—that the first sector of the primary disk contains the Ma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ot Record (MBR). When an x86 processor boots, the computer’s BIOS reads the MBR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eats part of the MBR’s contents as executable code. The BIOS invokes the MBR code to initi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 operating system boot process after the BIOS performs preliminary configura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mputer’s hardware. In Microsoft operating systems, including Windows, the MBR al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ains a partition table. A partition table consists of four entries that define the locations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any as four primary partitions on a disk. The partition table also records a partition’s typ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umerous predefined partition types exist, and a partition’s type specifies which file sy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artition includes. For example, partition types exist for FAT32 and NTFS. A special part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, an extended partition, contains another MBR with its own partition table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quivalent of a primary partition in an extended partition is called a logical drive. By u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nded partitions, Microsoft’s operating systems overcome the apparent limit of four part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 disk. In general, the recursion that extended partitions permit can continue indefinitel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ch means that no upper limit exists to the number of possible partitions on a dis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Windows boot process makes evident the distinction between primary and logical driv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ystem must mark one primary partition of the primary disk as active. The Windows c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the MBR loads the code stored in the first sector of the active partition (the system volu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o memory and then transfers control to that code. Because of the role in the boot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yed by this first sector in the primary partition, Windows designates the first sector of 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 as the boot sector. Recall from Chapter 4 that every partition formatted with a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 has a boot sector that stores information about the structure of the file system on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 are the disk format in Windows necessary for creating multi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lumes such as mirrors, stripes and RAID-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 are partitioned using Logical Disk Manager (LDM) partitioning. The L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system in Windows, which consists of user-mode and device driver components, overs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. Microsoft licenses LDM from VERITAS Software, which originally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DM technology for UNIX systems. Working closely with Microsoft, VERITAS ported its L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Windows to provide the operating system with more robust partitioning and multi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lume capabilities. A major difference between LDM’s partitioning and MBR and GPT part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at LDM maintains one unified database that stores partitioning information for 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ynamic disks on a system—including multipartition-volume configu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LDM’s UNIX version incorporates disk groups, in which all the dynamic disks that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assigns to a disk group share a common database. VERITAS’s commercial volume-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for Windows also includes disk groups, but the Windows LDM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only one disk gro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5FDB-AF8C-4FDF-BCF0-DF1ABFD0EB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anned volume is a single logical volume composed of a maximum of 32 free partition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more disks. The Windows Disk Management MMC snap-in combines the part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spanned volume, which can then be formatted for any of the Windows-supported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. Spanned volumes were called volume sets in Windows NT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anned volume is useful for consolidating small areas of free disk space into one larger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for creating a single, large volume out of two or more small disks. If the spanne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formatted for NTFS, it can be extended to include additional free areas or ad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s without affecting the data already stored on the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C7EC-0E04-4A80-8677-B224921339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iped volume is a series of up to 32 partitions, one partition per disk, that gets comb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single logical volume. Striped volumes are also known as RAID level 0 (RAID-0) volu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partition in a striped volume need not span an entire disk; the only restriction i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tions on each disk be the same siz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file system, this striped volume appears to be a single volume, but a volum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es data storage and retrieval times on the striped volume by distributing the volume’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physical disks. The volume manager accesses the physical sectors of the disks a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numbered sequentially in stripes across the di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mirrored volume, the contents of a partition on one disk are duplicated in an equal-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ition on another disk. Mirrored volumes are sometimes referred to as RAID level 1 (RAID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a program writes to drive C:, the volume manager writes the same data to the sam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mirror partition. If the first disk or any of the data on its C: partition beco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adable because of a hardware or software failure, the volume manager automatic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es the data from the mirror partition. A mirror volume can be formatted for any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-supported file systems. The file system drivers remain independent and are n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fected by the volume manager’s mirroring ac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rrored volumes can aid in read I/O throughput on heavily loaded systems. When I/O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igh, the volume manager balances its read operations between the primary 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 mirror partition (accounting for the number of unfinished I/O requests pending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disk). Two read operations can proceed simultaneously and thus theoretically finish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f the time. When a file is modified, both partitions of the mirror set must be written, 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 writes are done asynchronously, so the performance of user-mode programs is gener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affected by the extra disk upd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RAID-5 volume is a fault tolerant variant of a regular striped volume. RAID-5 volumes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D level 5. They are also known as striped volumes with parity because they are b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striping approach taken by striped volumes. Fault tolerance is achieved by reser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quivalent of one disk for storing parity for each strip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time data is written to a disk, the parity bytes correspo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modified bytes must be recalculated and rewritten. If the parity were always writ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same disk, that disk would be busy continually and could become an I/O bottlenec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ing a failed disk in a RAID-5 volume relies on a simple arithmetic principle: in an eq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n variables, if you know the value of n – 1 of the variables, you can determin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f the missing variable by subtraction. For example, in the equation x + y = z, where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s the parity stripe, the volume manager computes z – y to determine the contents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; to find y, it computes z – x. The volume manager uses similar logic to recover lost data. If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 in a RAID-5 volume fails or if data on one disk becomes unreadable, the volum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cts the missing data by using the XOR operation (bitwise logical addi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least three disks (or rather, three same-sized partitions on th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s) are required to create a RAID-5 volu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inarily, if a program tries to read data from a bad disk sector, the read operation fai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in the allocated cluster becomes inaccessible. If the disk is formatted as a fault-tole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volume, however, the Windows fault-tolerant driver dynamically retrieves a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f the data that was stored on the bad sector and then sends NTFS a warning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or is bad. NTFS allocates a new cluster, replacing the cluster in which the bad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es, and copies the data to the new cluster. It flags the bad cluster and no longer uses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ata recovery and dynamic bad-cluster remapping is an especially useful feature fo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s and fault-tolerant systems or for any application that can’t afford to lose data. If the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 isn’t loaded when a sector goes bad, NTFS still replaces the cluster an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it, but it can’t recover the data that was on the bad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ection we discuss the fault-tolerance and availability mechanisms found in Windows Server 2003. On the file-system side, in addition to proper disk management and antivirus protection, Windows Server 2003 provides Distributed File System (DFS), Volume Shadow Copy (VSC), and Remote Storage technolog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system-level fault tolerance, Windows Server 2003 includes the Microsoft Cluster Service (MSCS) and Network Load Balancing (NLB) technologies to provide redundancy and failover cap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ed File System (DFS) is a service that layers on top of the Workstation service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together file shares into a single namespace. The file shares can reside on the s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or on different computers, and DFS provides client access to the resources i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ion-transparent manner. The root of a DFS namespace must be a file share defined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Windows serv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ddition to delivering a unified network-resource namespace, DFS provides other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ugh DFS replica sets. An administrator can a create DFS replica set from two or m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s and use a replication mechanism such as FRS to copy data between the shares of a rep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 to keep their contents synchronized. DFS provides several forms of load balancing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dering and/or selecting members of a replica set to fulfill a client request for data on the rep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. In addition, DFS achieves high availability by routing requests to the working me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members of a replica set when a member becomes unavail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erver-side implementation of DFS consists of a Windows service (\Windows\System32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ssvc.exe) and a device driver (\Windows\System32\Drivers\Dfs.sys). The DFS service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exporting DFS topology management interfaces and maintaining the D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ology in either the registry (on non–Active Directory systems) or Active Directory. The D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 performs topology lookups when it receives a client request so that it can direct the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system where the file it is requesting resid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client side, DFS support is implemented in the MUP driver, described earlier, and 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IFS redirector for its internal communication with DFS servers. The DFS client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implemented in \Windows\System32\Ntlanman.dll. When a client issues a file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that specifies a file in the DFS namespace, the MUP driver on the client commun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target file server by using the appropriate redirec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e Replication service (FRS) is included with Windows Server systems. Its primary purpo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to replicate the contents of a domain controller’s \SYSVOL directory, which is where Windo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 controllers store logon scripts and group policies. (Group policies perm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ors to define usage and security policies for the computers that belong to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.) In addition, FRS can be used to replicate Distributed File System (DFS) sha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ween systems. FRS allows for distributed multimaster replication, which enables 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 to perform replication activity. When a replicated directory or file is changed,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s are propagated to the other domain controll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undamental concept in FRS is a replica set, which consists of two or more systems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licate between themselves the contents of a directory tree according to an administrativ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ined schedule and topology. Only directories on NTFS volumes can be replicated beca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relies on the NTFS change journal to detect changes to files in directories in a replica se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ause FRS is based on multimaster replication, it can theoretically support hundreds 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n thousands of systems as part of a replica set, and the computers of a replica set can b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 with arbitrary network topologies (such as ring, star, or mesh). Computers can al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 members of multiple replica se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is implemented as a Windows service (\Windows\System32\Ntfrs.exe) that u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enticated RPC with encryption to communicate between instances of itself running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fferent computers. In addition, because Active Directory contains its own replication capabiliti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uses Active Directory APIs to retrieve FRS configuration information from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’s Active Direct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Load Balancing, which is included with Windows Advanced Server, is based on NDIS intermediate-driver techn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Load Balancing allows for the creation of a cluster containing up to 32 computers, which are called cluster h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Network Load Balancing. The cluster maintains a single virtual IP address that is pub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access by clients, and client requests go to all the computers in the cluster. However,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cluster host responds to the request. The Network Load Balancing NDIS drivers effectiv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ition the client space among available cluster hosts in a distributed manner.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y, each host handles its portion of incoming client requests and every client request al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s handled by one and only one host. The cluster host that determines it should handle a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allows the request to propagate up to the TCP/IP protocol driver and eventually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application; the other cluster hosts don’t. If a cluster host fails, the rest of the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es that the cluster host is no longer a candidate for processing requests and redis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coming client requests to the remaining cluster hosts. No new client requests are sent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owned cluster host. Another cluster host can be added to the cluster as a replacemen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it will then seamlessly start handling client reques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Load Balancing isn’t a general-purpose clustering solution because the serve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lients communicate with must have certain characteristics: the first is that it m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TCP/IP-based, and the second is that it must be able to handle client requests on an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twork Load Balancing cluster. This second requirement typically means that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that must have access to shared state in order to service client requests must man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red state itself—Network Load Balancing doesn’t include services for automa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ng shared state across cluster hosts. Applications that are ideally suited for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Balancing include a Web server that serves static content, Windows Media Server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F6C9-8BDB-47F6-AA04-B79975EA81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writes several types of records to its transaction log. Two types, update records and checkpoint records, are describ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records Update records are the most common type of record NTFS writes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 file. Each update record contains two kinds of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o information How to reapply one suboperation of a fully logged (“committed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o the volume if a system failure occurs before the transaction is flu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ndo information How to reverse one suboperation of a transaction that was only parti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d (“not committed”) at the time of a system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covering after a system failure, NTFS reads through the log file and redoes each com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. Although NTFS completed the committed transactions before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, it doesn’t know whether the cache manager flushed the volume modifications to 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ime. The updates might have been lost from the cache when the system failed.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executes the committed transactions again just to be sure that the disk is up to 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redoing the committed transactions during a file system recovery, NTFS locates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 in the log file that weren’t committed at failure and rolls back (undoes) each sub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ad been logg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B543-9A1B-44A9-9CEF-6970C15FE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9E2F-1620-475B-9E26-583A0DD0D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9871-33AF-40D1-B761-EECBCDBA2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D03DF-29C1-4DEC-9C27-055C4A89E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48CC2-6099-403C-B815-D3884C899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630F0-1E48-4447-8791-E774D637F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20A7-F19A-4F10-A3AA-467C4C791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8554A-94F6-469F-B3CC-8D87D4D47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1C32-ACEE-444F-80DB-363DD966C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06E4-A676-47A7-B1E9-67E360117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1CA3-23FC-468B-8737-2B8FF70B5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8B5EE-6307-4E37-AA55-9E234B062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2D7E-7122-467A-AB47-F0207AEFE9D5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0: Fault Toleranc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y - P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scans forward in log file from beginning of last 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s transaction/dirty page tables it copied in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scans tables for oldest update record of a no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i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 tr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o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looks for “page update“ records which contain volume modification that might not have been flushed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redoes these updates in the cache until it reaches end of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he manager “lazy writer thread“ begins to flush cache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 back any transactions that were not committed when system fai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undo pass – volume is at consistent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empty LFS restart area; no recovery is needed if system fails 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A22B-7503-4415-9944-6B71E0873D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48006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4495680"/>
            <a:ext cx="1447920" cy="38124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ndo Pass - Exampl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44953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Transaction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committed before power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Transaction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still a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must log undo operations in log fi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might fail again during recovery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would have to redo its undo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133720"/>
            <a:ext cx="106704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133720"/>
            <a:ext cx="106668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133720"/>
            <a:ext cx="10666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2133720"/>
            <a:ext cx="106668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133720"/>
            <a:ext cx="10670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2133720"/>
            <a:ext cx="10670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057400"/>
            <a:ext cx="87631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447920" y="2438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14600" y="2743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12408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257800" y="2743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14800" y="27428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97180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58000" y="27428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391520" y="243828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71400" y="1523880"/>
            <a:ext cx="29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 committed“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62720" y="1828440"/>
            <a:ext cx="75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000" y="3886200"/>
            <a:ext cx="401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Allocate/Initialize an MFT file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Deallocate the file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0160" y="3276720"/>
            <a:ext cx="40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Add the filename to the ind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Remove the filename from the ind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8960" y="3886200"/>
            <a:ext cx="32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Set bits 3-9 in the bit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Clear bits 3-9 in the bit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229600" y="27428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248520" y="2743200"/>
            <a:ext cx="30456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666880" y="2742840"/>
            <a:ext cx="914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1066680"/>
            <a:ext cx="1371600" cy="12193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Power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fail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F85C-47D6-49E3-9508-F68DA667D6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FS Recovery - Conclusion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very will return volume to some preexisting consistent state (not necessarily state before cra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zy commit algorithm: log file is not immediately flushed when a „transaction committed“ record is wri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 File Service batches recor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sh when cache manager calls or check pointing record is written (once every 5 sec); also when log is f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parallel transactions might have been active before cr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uses log file mechanisms for error hand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I/O errors are not file system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might create MFT record and detect that disk is full when allocating space for a file in the bitm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uses log info to undo changes and returns „disk full“ error to c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E6B3-50F1-45B2-AE09-239BECA022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Tolerance Support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sing multiple disk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‘ capabilities are enhanced by the fault-tolerant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olume manag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es above hard disk drivers in the I/O system‘s layered driver sch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tDisk – for basic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MIO – for dynamic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management capabilitie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ndant data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data recovery from bad sectors on SCSI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itself implements bad-sector recovery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CSI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5A3F-2174-447A-B5A5-6385FE0D10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erminolog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a physical storage device such as a hard disk, a 3.5-inch floppy disk, or a CD-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isk is divided into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tor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ddressable blocks of fixed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tor sizes are determined by hardw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current x86-processor hard disk sectors are 512 bytes, and CD-ROM sectors are typically 2048 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ture x86 systems might support larger hard disk sector si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ti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collections of contiguous sectors on a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tition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other disk-management database stores a partition's starting sector, size, and other character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mple volu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objects that represent sectors from a single partition that file system drivers manage as a single un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rtition volu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objects that represent sectors from multiple partitions and that file system drivers manage as a single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artition volumes offer performance, reliability, and sizing features that simple volumes do n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EDE8-1049-41D0-A66E-8BC770B7CE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vs Dynamic Dis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disk partitioning schemes used by Wind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ic disk parti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ynamic disk parti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 disks rely on MS-DOS-style disk parti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really Windows legacy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information for each disk stored on d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artition information not stored on d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be lost when disk moved, OS reinstall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amic disks implement a more flexible partitioning sch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ation of multipartition volumes is on disk and mirrored across the dynamic disks of the same computer. This allows for easy migration and minimizes chances of disk configuration lo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dvantage is that partitioning is not understood by other OS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tops only support basic disk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ually only disk and disks not remov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disks are basic disks unless created new as dynamic disks or conve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F2C5-8B43-498B-BFE3-E9BE1903E2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disk has a sector called 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ster Boot Record (MBR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its first sector, that defines the first level of partitioning with i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rtition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98680" y="2514600"/>
            <a:ext cx="838080" cy="6858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98680" y="32004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98680" y="3427560"/>
            <a:ext cx="838080" cy="22860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8680" y="36576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8680" y="38862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1320" y="2575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67160" y="3124080"/>
            <a:ext cx="29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00680" y="32767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io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9396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93960" y="4114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4624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946240" y="32004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648320"/>
            <a:ext cx="1526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4648320"/>
            <a:ext cx="12193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648320"/>
            <a:ext cx="1219320" cy="60948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Boot part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648320"/>
            <a:ext cx="152280" cy="609480"/>
          </a:xfrm>
          <a:prstGeom prst="rect">
            <a:avLst/>
          </a:prstGeom>
          <a:solidFill>
            <a:srgbClr val="e386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648320"/>
            <a:ext cx="5331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648320"/>
            <a:ext cx="12193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240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56272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9360" y="57754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20960" y="579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4880" y="5791320"/>
            <a:ext cx="114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extend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54880" y="579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343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4343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4343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191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8880" y="358128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s within a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219320" y="41148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66680" y="2514240"/>
            <a:ext cx="38124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2590920"/>
            <a:ext cx="228600" cy="228600"/>
          </a:xfrm>
          <a:prstGeom prst="rect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514600"/>
            <a:ext cx="21337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s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3352680"/>
            <a:ext cx="228600" cy="228600"/>
          </a:xfrm>
          <a:prstGeom prst="rect">
            <a:avLst/>
          </a:prstGeom>
          <a:solidFill>
            <a:srgbClr val="e386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242A-C6EF-4949-BF7D-77DCB1599C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BR describes up to 4 primary part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record of each primary partition is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oot rec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primary partition can be marked “bootabl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partition has a partition type (FAT, FAT32, NTFS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overcome a 4-partition limit, a basic disks define a special type of partition called 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a subdisk, complete with its own M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NT 4, configuration for multipartition volumes is stored in the Registry’s HKLM\System\Disk sub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t of system is reinstalled or disk is moved to anothe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A6C9A-51D0-45CD-B03B-B0505F0F90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ynam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9120" indent="-339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ynamic disk partitioning scheme is defined by a component called Logical Disk Manager (LD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consists of a service and driver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ynamic disk partitioning scheme was co-developed with Veritas Software, porting LDM from UNIX implemen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120" indent="-339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DM maintains one unified database that stores all partitioning information, for all disks in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base also stores multipartition configu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base occupies last 1 MB of each dynamic disk, and is mirrored across a system’s dynamic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1400" indent="-256320"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itas offers add-on software that allow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ynamic disks to be managed in subs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isk 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5486400"/>
            <a:ext cx="152280" cy="533520"/>
          </a:xfrm>
          <a:prstGeom prst="rect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5486400"/>
            <a:ext cx="2666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5486400"/>
            <a:ext cx="53352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4480" y="5880240"/>
            <a:ext cx="8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st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52800" y="64008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partition 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624852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84560" y="64008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5257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5257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52578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6120" y="48769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M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6095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62520" y="6019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6BDC-9E36-44A8-B93A-7E6AFC4243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ynamic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uter’s boot and system disks have  a mix of dynamic and basic disk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LDR only understands basic-disk partitio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M partitions are call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ft parti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ereas basic-disk partitions ar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rd part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on “pure” dynamic disks, the MBR contains a basic-disk partition table that defines the entire usable area of the disk as a single hard partition of type L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M manages the space within the LDM partition in its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578D0-2304-444E-A5EF-3079A8C9B9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3E46-C534-4DCA-A283-F66AB29867A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ultipartition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ltipartition volumes available in Window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nned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rrored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ped-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-5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artitions that make up new multipartition volumes must be on dynamic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preserves NT 4 multipartition volumes on basic disks during an upg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23AB-1E9A-471D-86EA-E7B0260964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olume Management Features –</a:t>
            </a:r>
            <a:br>
              <a:rPr sz="4000"/>
            </a:b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Spanned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822960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pann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logical volume composed of a maximum of 32 areas of free space on one or more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volume sets can be dynamically increased in siz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nly bitmap file which stores allocation status needs to be extend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de physical configuration of disks from fil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: Windows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k Management MMC snap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panned volumes were called volume sets in Windows NT 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200400" y="2133720"/>
            <a:ext cx="609480" cy="1143000"/>
            <a:chOff x="3200400" y="2133720"/>
            <a:chExt cx="609480" cy="1143000"/>
          </a:xfrm>
        </p:grpSpPr>
        <p:sp>
          <p:nvSpPr>
            <p:cNvPr id="233" name=""/>
            <p:cNvSpPr/>
            <p:nvPr/>
          </p:nvSpPr>
          <p:spPr>
            <a:xfrm>
              <a:off x="3200400" y="30481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0400" y="2667240"/>
              <a:ext cx="609480" cy="533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0400" y="2590920"/>
              <a:ext cx="609480" cy="2286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210040"/>
              <a:ext cx="60948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133720"/>
              <a:ext cx="609480" cy="2286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0040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029200" y="2133720"/>
            <a:ext cx="609480" cy="1143000"/>
            <a:chOff x="5029200" y="2133720"/>
            <a:chExt cx="609480" cy="1143000"/>
          </a:xfrm>
        </p:grpSpPr>
        <p:sp>
          <p:nvSpPr>
            <p:cNvPr id="241" name=""/>
            <p:cNvSpPr/>
            <p:nvPr/>
          </p:nvSpPr>
          <p:spPr>
            <a:xfrm>
              <a:off x="5029200" y="3048120"/>
              <a:ext cx="60948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9200" y="2667240"/>
              <a:ext cx="6094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29200" y="25909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29200" y="2210040"/>
              <a:ext cx="609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29200" y="21337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135880" y="21337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64680" y="27432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4680" y="20574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35880" y="266688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01880" y="2133720"/>
            <a:ext cx="159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lume set D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ccupies half of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o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5C552-FF6A-42CB-B4CC-27D89D5E1E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tripe</a:t>
            </a: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d Volumes (RAID-0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partitions, one partition per disk (of same si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d into a single logical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ptimize data storage and retrieval ti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pes are narrow: 64K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tends to be distributed evenly among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ple pending read/write ops. will operate on different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tency for disk I/O is often reduced (parallel seek oper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6708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676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9328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348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60640" y="216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4200" y="216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60640" y="232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9960" y="2171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B28EC-8E3B-4146-B372-3F65766F1F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Tolerant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mplement redundant storage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ror sets (RAID-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pe sets with parity (RAID-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tor sp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Windows Disk Management MMC snap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rrored Volum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 of a partition on one disk are duplicated on another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Disk/DMIO write same data to both lo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349"/>
              </a:spcBef>
              <a:spcAft>
                <a:spcPts val="349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operations are done simultaneously on both disk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load balancing)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2670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57600" y="39625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39040" y="42670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39040" y="39625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26240" y="40384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33720" y="4419720"/>
            <a:ext cx="8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rro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B9A8-BB38-4542-BB20-82E8FE3317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irrored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mprovement because reads of different data can occur in parallel through dynamic load bal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667560" cy="482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EBBD-F521-423B-9208-C5EF96FB5D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RAID-5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ult tolerant version of a regular strip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ity: logical sum (X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ity info is distributed evenly over available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construct missing data by using XOR 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2514600"/>
            <a:ext cx="6094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8480" y="27115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30FE-D1E0-4BAF-8B15-C78A1CF96B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Disk Management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MC Snapi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95280" y="1676520"/>
          <a:ext cx="655344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55344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2B40-366B-44F2-A832-9F4E2E38C7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Volume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5041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DM Volume Manager inserts itself above disk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s “volumes” to fil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volume-oriented requests and can create sub-requests aimed at different disks of multipartition volu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00720" y="1341360"/>
          <a:ext cx="3544920" cy="511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00720" y="1341360"/>
                    <a:ext cx="354492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8BB3-F415-4045-9EE7-A779550E8E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d Cluster Recove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or sparing is supported by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copying of recovered data to spare s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intervention from file system /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s for certain SCSI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turn bad sector warning to NT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or r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 is supported by NT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will not reuse bad clu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copies data recovered by 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o a new 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cannot recover data from bad sector without help from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will never write to bad sector (r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 before wri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077D-C103-4A94-BD36-4A3A30DB6D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d-cluster re-mapp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69760" y="32288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FS file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2880" y="322884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2200" y="322884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urity de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36120" y="32288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3533760"/>
            <a:ext cx="1676520" cy="5335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353376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353376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5000" y="3533760"/>
            <a:ext cx="2895480" cy="16765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5454720"/>
            <a:ext cx="11430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43360" y="42958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r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715000" y="3533760"/>
          <a:ext cx="3048120" cy="1800360"/>
        </p:xfrm>
        <a:graphic>
          <a:graphicData uri="http://schemas.openxmlformats.org/drawingml/2006/table">
            <a:tbl>
              <a:tblPr/>
              <a:tblGrid>
                <a:gridCol w="892080"/>
                <a:gridCol w="892440"/>
                <a:gridCol w="12636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V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L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clu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1677960" y="5133960"/>
            <a:ext cx="14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93800" y="575928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6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95480" y="543888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29000" y="543888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56360" y="5759280"/>
            <a:ext cx="22860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48320" y="5438880"/>
            <a:ext cx="25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64880" y="6140520"/>
            <a:ext cx="29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8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89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9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76584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29936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90884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190760" y="4295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276720" y="429588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50576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505764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5896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819760"/>
            <a:ext cx="53316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11320" y="55148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88360" y="612468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952520" y="460044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648320" y="4600440"/>
            <a:ext cx="304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69760" y="152388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FS file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2880" y="152388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92200" y="152388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urity de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36120" y="1523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1828800"/>
            <a:ext cx="1676520" cy="5335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182880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182880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791320" y="1828800"/>
          <a:ext cx="2971440" cy="1017720"/>
        </p:xfrm>
        <a:graphic>
          <a:graphicData uri="http://schemas.openxmlformats.org/drawingml/2006/table">
            <a:tbl>
              <a:tblPr/>
              <a:tblGrid>
                <a:gridCol w="893520"/>
                <a:gridCol w="893520"/>
                <a:gridCol w="11844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V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L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clu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4267080" y="2635200"/>
            <a:ext cx="53352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B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87640" y="23302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4680" y="294012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800600" y="2590920"/>
            <a:ext cx="914400" cy="19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CB0F-2E53-4951-8ECC-D8C498C95D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0.1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otion of Fault-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Support in 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Management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ped and Spanned Volu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File System (DFS) and File Replication Service (F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Load Balancing (NL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Clustering (MS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EF54-CBC2-461B-B12A-B647B04ED82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istributed File System (DFS)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Data Replication for high Availabil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ategic storage management solu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mespa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implified views of folders regardless of where those files physically reside in a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mespace abstracts away file pa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f a file server’s name does not break virtual DFS pa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stores path names logically as a single name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icated file servers for high 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9F42-FC91-4AB7-B8C4-F872FF0C87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ow DFS Wor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1120" indent="-321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nd a server compo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Windows system can be a DFS 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NT/2000/2003 Server include DFS server compon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1120" indent="-321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iew of shared folders on different servers is called the DFS name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a virtual UNC p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ingle namespa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map to phys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s resid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multiple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038480" y="3276720"/>
          <a:ext cx="4843440" cy="3036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276720"/>
                    <a:ext cx="484344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A0DF-3B35-4692-8F55-555BB3A0D6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Oper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96280" indent="-2962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operates in multiple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makes a request of the DFS namespac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returns the appropriate path to the data (including Active Directory site-costing information when AD is in u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makes a connection to the server and sh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438280" y="3276720"/>
          <a:ext cx="4564080" cy="3405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3276720"/>
                    <a:ext cx="456408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688B-0669-45AD-9807-387D9100CD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Authent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is a multi-protocol archite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SMB and LAN Manager authentication protocols to communicate between a DFS client and a DFS ser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server can redirect requests to various types of shares protocol-specific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essage Block (SMB)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File System (NFS)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 for Macintosh™ (AFP) servers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are™ Core Protocol (NCP) serv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client machines must install suitable redirect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F030-50BB-421D-83D2-131E2D6742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Request Routing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for replicated server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s/Folders on a DFS server can be replicated using File Replication Service (F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resolves file and folder name conflicts to make data consistent among the replic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uses “last writer wins” rule to resolve confli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requests are then routed to the closest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server becomes unavailable, DFS ensures that requests are routed to the next closest server by using site-co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 site and costing information will be used for routing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.e.; whether sites are connected via inexpensive, high-speed links or by expensive WAN lin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8378-2CC8-4767-81DA-A9BF451625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ile Replication Service 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FRS) Detail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to replication schedule, server load, and network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file or folder is changed and closed, FRS begins replicating within three sec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t replication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ult-tolerant distribution by way of multiple connection paths betwee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cal file data is sent no more than once to any replica m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BE69-7704-4193-8885-BD79A3B68DE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RS Detail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scheduled to occur at specified times and dur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ing data during off-hours may free up network bandwidth for other 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 are replicated only after they have been changed and cl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relies on the update sequence number (USN) journal to log records of files that have changed on a replica m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does not lose track of a changed file even if a replica member shuts down abrup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3078-CDC5-40CC-894E-96015CDA6F0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MT"/>
              </a:rPr>
              <a:t>Distributed File System Solution in Microsoft Windows Server 2003 R2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5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 Replication is a new state-based, multimaster replication eng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replication scheduling and bandwidth thrott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compression protocol called Remote Differential Compression (RD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35320" indent="-2534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to efficiently update files over a limited-bandwidth 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DC detects insertions, removals, and re-arrangements of data in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35320" indent="-2534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DC replicates only the changes when files are upd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-file RDC can help reduce the amount of bandwidth required to replicate new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tial improvements over File Replication Service (F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1643-9DA5-47DA-914B-FE415BCD36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creased Availability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th DFS and FRS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may pointing to multiple volumes that can be alternates for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manages failover to alternate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copies of read-only shares can be mounted under the same logical DFS name (re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ccesses to DFS volumes are evenly distributed across multiple alternate network sh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S and DFS replication (in Server 2003 R2) can be used to maintain consistency among replicated volu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5DD3-9480-4868-8A9E-4353FD97B4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etwork Load Balancing (NLB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ustering technology for stateles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of all Windows 2000 Server and Windows Server 2003 family opera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a distributed algorithm to load balance network traffic across a number of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700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ing to enhance the scalability and availability of mission critical, IP-based servic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700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, Virtual Private Networking, Streaming Media, Terminal Services, Proxy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vailability by detecting host failures and redistributing traffic to operational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631B-07D6-430A-8A2A-07F568C118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t System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is the property of a system that continues operating properly in the event of failure of some of its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ts operating quality decreases at all, the decrease is proportional to the severity of the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ce is particularly sought-after in high-availability or life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is not just a property of individual machines; it may also characterize the rules by which they inte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06035-3184-4B1D-888F-46D3AC873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versus Server Clust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9120" indent="-339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rver cluster (MSCS) is a collection o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single, highly availabl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can be failed over (SQL Server, Exchange Server data stores, file and print server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CS clusters are used for statefu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120" indent="-339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LB clusters distribute network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B clusters provide a highly available and scalable platform for applications such as IIS, ISA server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B is used for stateless applications; i.e. those that do not build any state as a result of a requ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AECB-F044-495E-9ED0-D07AC72A063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for High Availabil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NLB Detect a Server Fail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NLB Cluster host emits heartbea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process to remove a failed host from the clus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efault, five seconds are required to detect a failed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process takes three seconds to evict the failed host and redistribute its 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6BD75-A78E-46A6-9B76-AD63FE5BC1E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Load Balancing Algorith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y distributed filtering algorithm to map incoming clients to the cluster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hosts simultaneously inspect arriving packets and determine which host should handle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 function determines destination and calculates a host priority based on IP address, por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ination host forwards the packet to the TCP/IP network st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cluster hosts discard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 remains unchanged unless the membership of cluster hosts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iven clients IP address and port will always map to the same cluster h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ffinity settings modify statistical mapping algorith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B763-4C8E-4998-B69E-FD87146F4B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Implementation and Overhead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has a kernel component called wlbs.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 intermediate NDI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LB also has user-mode management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creates additional CPU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linearly with increased throughput on network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2133720" y="3657600"/>
            <a:ext cx="452736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8ECF-5EAA-4BFC-8055-EA63BEC0B7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Windows Server 2003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ing technology for statefu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amatically improved version of the Microsoft Cluster Service (MSCS) compon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CS was included with Windows 2000 Advanced Server and Windows 2000 Datacenter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wo and eight servers that will act as nodes in the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ster resource include network names, IP addresses, applications, services, and disk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10A9-0DB9-4280-8746-AB27058BF4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 Operation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single quorum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s in a cluster use a quorum to track which node owns a clustered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quorum is the storage device controlled by the primary node for a clustered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one node at a time may own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failover, the backup node takes ownership of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quorum may be created on the storage device attached to all nodes (single quorum device server clus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362320" y="4495680"/>
          <a:ext cx="4952880" cy="2287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2320" y="4495680"/>
                    <a:ext cx="495288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B69E-FE9B-45D4-8F37-50C32D98252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ajority node set (MNS)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orum stored on a locally attached storage device connected to each of the cluster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up node must have a copy of the data stored within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handles this requirement by replicating quorum data across th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can be a LAN, WAN, or VP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09680" y="4419720"/>
          <a:ext cx="5181840" cy="2305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419720"/>
                    <a:ext cx="51818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C529-7A9E-43A4-934E-045081682C6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vailability of a Server Clust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ffectively fail over between nodes, majority node set clusters must have at least three no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half of the cluster nodes must be active at al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e.; in a cluster with three nodes, two of them must be active for the cluster to be 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node clusters must have five nodes active to remain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quorum device server clusters require that only a single node continues to fun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5668-29BF-4EA7-A146-4809B6D3F13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rdware and Software Fail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ed disks, memory, processors, power, and network equipment are all common sources of unplanned dow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and NLB can be used to provide availability in the event of a failure of a processor, memory chip, power supply, or other hardware compon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erver 2003 clusters provide availability at many other lay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vide complete redundancy, all layers of your application must be clus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provides availability and scalability for the firewalls, front-end servers, and application server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provides high availability for the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AD076-2651-418F-A804-8717A3006C8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ustered Application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the bigger pictur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533520" y="1523880"/>
          <a:ext cx="822960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22960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55A9-DAE7-4892-9ADD-6856BECDBB6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Models and Protoc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specify Fault Model when discussing fault-tolerant (FT)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FT mechanisms in Windows are dealing with crash faults of computers or application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ash faults can be handled by replication in space o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9480" y="2662200"/>
            <a:ext cx="8229600" cy="41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F093-29A9-4006-AC10-1CF83FE6A1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2 - File System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Recovery Support (from pp. 77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3 - Network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Load Balancing and File Replication Service (from pp. 841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0 - Storage Manag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ume Management (from pp. 62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ed File System (DFS) and File Replication Services (F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windowsserver2003/technologies/storage/dfs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Load Balancing (NLB) for Windows 2000 and Windows Server 2003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technet/prodtechnol/windowsserver2003/technologies/clustering/nlbfaq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erver 2003 Clus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windowsserver2003/techinfo/overview/bdmtdm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C1A6-EDA4-42C3-90F5-AB2320A5438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(WRK)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fstub – partition table/MBR support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the other topics covered in this unit are not included with the W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3FD3D-3AF7-4D2E-AAA3-1C978216F612}" type="slidenum">
              <a:t>51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ce (FT) by dupl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pproaches toward F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identical system instan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ing tasks or requests to all of them in parallel, and choosing the correct result on the basis of a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ndanc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-over among multiple identical system instan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l-back or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it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different implementations of the same sp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m like replicated systems to cope with errors in a specific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4FB0-434C-4340-B141-73D6D6E256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ce in NTF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Increasing System Availabil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tion-based logg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, even for large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very is limited to file system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ransaction processing like SQL server for user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eoff: performance versus fully fault-tolerant File System (F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options for file I/O &amp; cac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eful wri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VAX/VMS FS, other proprietary OS 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zy wri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st UNIX FS, OS/2 HPF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6AA1-2B45-4FC0-9AEB-BB29BF584D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able File System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(Journaling File System)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of careful write FS / performance of lazy write 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 file + fast recovery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 file imposes some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ation over lazy write: distance between cache flushe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support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che write-thr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che flus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iggered by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extra disk I/O to update FS data structures necessary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hanges to FS structure are recorded in log file which can be written in a single 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future, NTFS may support logging for user files (hooks in pla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233D-90D8-4EAD-B82A-8F375C2E66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y - Princip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performs automatic re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update records and checkpoints in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records store sub operations that change File System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writes checkpoint every 5 se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s copy of transaction table and dirty page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point includes LSNs of the log records containing the tabl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1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ly a series of records - interleaved with update rec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very depends on two NTFS in-memory tab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ansaction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keeps track of active transactions (not complete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ub operations of these transactions must be removed from dis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ty page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records which pages in cache contain modifications to file system structure that have not yet been written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530680"/>
            <a:ext cx="7924680" cy="60984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607000"/>
            <a:ext cx="9907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irty page 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5607000"/>
            <a:ext cx="9907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5607000"/>
            <a:ext cx="10670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ransaction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607000"/>
            <a:ext cx="10666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heckpoint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5607000"/>
            <a:ext cx="9903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5607000"/>
            <a:ext cx="9903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523880" y="606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95880" y="606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4640" y="6292800"/>
            <a:ext cx="28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gin of checkpoint op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6640" y="6292800"/>
            <a:ext cx="26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 of checkpoint op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C073-899E-4FD5-AA76-E015911363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8:56:58Z</dcterms:modified>
  <cp:revision>85</cp:revision>
  <dc:subject>Windows Operating Systems Internals Course</dc:subject>
  <dc:title>Unit OS 10: Fault-Tolerance</dc:title>
</cp:coreProperties>
</file>