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BEC4-FD48-4200-99D5-1FB4077E6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3754-F8AC-498A-A823-403062198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763120"/>
            <a:ext cx="487692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98520" y="801720"/>
            <a:ext cx="4260960" cy="3195720"/>
          </a:xfrm>
          <a:prstGeom prst="rect">
            <a:avLst/>
          </a:prstGeom>
          <a:ln w="0">
            <a:noFill/>
          </a:ln>
        </p:spPr>
      </p:sp>
      <p:sp>
        <p:nvSpPr>
          <p:cNvPr id="132" name="PlaceHolder 2"/>
          <p:cNvSpPr>
            <a:spLocks noGrp="1"/>
          </p:cNvSpPr>
          <p:nvPr>
            <p:ph type="body"/>
          </p:nvPr>
        </p:nvSpPr>
        <p:spPr>
          <a:xfrm>
            <a:off x="533520" y="4191120"/>
            <a:ext cx="5943600" cy="449568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nually Loading and Unloading H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dt32 on Windows 2000 and Regedit on Windows XP and Windows Server 2003  have the ability to load hives that you can access through its File menu. This capability  can be useful in troubleshooting scenarios where you want to view or edit a hive from an  unbootable system or a backup medi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use Regedt32 (if  you’re running Windows 2000) or Regedit (if you’re running Windows XP and Windows Server 2003) to load a version of the HKLM\SYSTEM hive that Windows Setup  creates and stores in \Windows\Repair during the install proc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s can be loaded only underneath HKLM or HKU, so open Regedit or  Regedt32, select HKLM, and choose Load Hive from the Regedit File menu or the  Regedt32 Registry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Windows\Repair directory in the Load Hive dialog box, select  System.bak, and open it. When prompted, enter Test as the name of the key under  which it will lo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newly created HKLM\Test key, and explore the contents of the h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HKLM\System\CurrentControlSet\Control\Hivelist, and locate the entry  \Registry\Machine\Test, which demonstrates how the configuration manager  lists loaded hives in the HiveList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HKLM\Test, and choose Unload Hive from the Regedit File menu or the  Regedt32 Registry menu to unload the hi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Regmon to Locate Application Registry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me troubleshooting scenarios, you might need to determine where in the registry  the system or an application stores particular settings. This experiment has you use Regmon to discover the location of Notepad’s settings. Notepad, like most Windows applications, saves user preferences—such as word-wrap mode, font and font size, and  window position—across executions. By having Regmon watching when Notepad reads  or writes its settings, you can identify the registry key in which the settings are stored.  Here are the steps for doing thi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epad save a setting that you can easily search for in a Regmon trace. You  can do this by running Notepad, setting the font to Times New Roman, and then  exiting 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Regmon. Open the highlighting filter dialog box and enter notepad.exe in  the Include filter. This will have Regmon log only activity that has notepad.exe in  either the Process or Path colum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again, and after it has launched stop Regmon’s event capture by toggling Capture Events in the Regmon File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to the top line of the resultant log and select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F to open a Find dialog box, and search for times new. Regmon should  highlight a line like the one shown in the following graphic that represents Notepad reading the font value from the Registry. Other operations in the immediate  vicinity should relate to other Notepad sett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the highlighted line. Regmon will execute Regedit (if it’s not  already running) and cause it to navigate to and select the Notepad referenced registry valu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457200"/>
            <a:ext cx="4572000" cy="3429000"/>
          </a:xfrm>
          <a:prstGeom prst="rect">
            <a:avLst/>
          </a:prstGeom>
          <a:ln w="0">
            <a:noFill/>
          </a:ln>
        </p:spPr>
      </p:sp>
      <p:sp>
        <p:nvSpPr>
          <p:cNvPr id="11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management and scripting mechanisms and concepts implemented inside the Windows operating system. Students are expected to carry out Labs in addition to studying the learning materials in Unit OS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12: Script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457200"/>
            <a:ext cx="4572000" cy="3429000"/>
          </a:xfrm>
          <a:prstGeom prst="rect">
            <a:avLst/>
          </a:prstGeom>
          <a:ln w="0">
            <a:noFill/>
          </a:ln>
        </p:spPr>
      </p:sp>
      <p:sp>
        <p:nvSpPr>
          <p:cNvPr id="11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WMI Scripts to Manag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aspect of WMI is its support for scripting languages. Microsoft has generated  hundreds of scripts that perform common administrative tasks for managing user  accounts, files, the registry, processes, and hardware devices. While some scripts ship in  the Windows Resource Kits, the Microsoft TechNet Scripting Center Web site serves as  the central location for Microsoft scripts. Using a script from the scripting center is as  easy as copying its text from your Internet browser, storing it in a file with a .vbs  extension, and running it with the command cscript script.vbs, where “script” is the  name you gave the script. Cscript is the command-line interface to Windows Script Host  (W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prvse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miprvse being created by running Process Explorer from www.sysinternals.com and executing Wmic. A Wmiprvse process will appear beneath the Svchost process that hosts the RPC service. If Process Explorer job highlighting is enabled, it will  appear with the job highlight color because, to prevent a runaway provider from consuming all virtual memory resources on a system, Wmiprvse executes in a job object  that limits the number of child processes it can create and the amount of virtual memory  each process and all the processes of the job can allocate.</a:t>
            </a:r>
            <a:endParaRPr b="0" lang="en-US" sz="1200" spc="-1" strike="noStrike">
              <a:solidFill>
                <a:srgbClr val="000000"/>
              </a:solidFill>
              <a:latin typeface="Arial"/>
            </a:endParaRPr>
          </a:p>
        </p:txBody>
      </p:sp>
      <p:pic>
        <p:nvPicPr>
          <p:cNvPr id="118" name="" descr=""/>
          <p:cNvPicPr/>
          <p:nvPr/>
        </p:nvPicPr>
        <p:blipFill>
          <a:blip r:embed="rId1"/>
          <a:stretch/>
        </p:blipFill>
        <p:spPr>
          <a:xfrm>
            <a:off x="457200" y="5715000"/>
            <a:ext cx="5842080" cy="2428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OF Definitions of WMI Cla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MOF definition for any WMI class by using the WbemTest tool that  comes with Windows. In this experiment, we’ll look at the MOF definition for the  Win32_NTEventLogFile cla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in32_NTEventLogFile in the list classes, and double-click it to see its class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how MOF button to open a window that displays the MOF tex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 Ob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active  instances of any WMI class by using the WbemTest tool that  comes with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any  class in the class list and click the Instances button see its ins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one particular instance to open window that displays its proper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Fun with the Hardw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ool your coworkers or friends into thinking that you have the latest and greatest  processor by modifying the value of the ProcessorNameString value under HKLM\HARDWARE\DESCRIPTION\System\CentralProcessor\0. The System applet of the control  panel displays the ProcessorNameString value on the General page. Changes you make to  other values in that key, such as the ~MHz, do not have any affect on what the System  applet displays, however, because the system caches many of the values for use by functions that applications use to query the system’s processor capa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ofile Loading and Un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profile load into the registry and then unload by using the Runas command to launch a process in an account that’s not currently logged on to the machine.  While the new process is running, run Regedit and note the loaded profile key under  HKEY_USERS. After terminating the process, perform a refresh in Regedit by pressing  the F5 key and the profile should no longer be pres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79C613-93AF-428D-93A3-908BBB2B9A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9143E6-8ED3-41AA-BDA4-3013DE44F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776543-09DC-4436-95DE-F06ED472E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F52652-F60A-43A3-8604-BA3F8115E5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94D1CA-2712-4061-8595-80F56291B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2D4561-F464-44D3-8102-82668107F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7C6462-CC43-4A9D-A20B-B2A0A4EF4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76E743-7E74-44DD-9FCD-22496217FA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96CDB-6ACF-4A34-91D0-9E9167938D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88B539-2E51-43A6-AF76-EDAD587367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C8B78-FD66-4846-969F-B71A64A01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F30F36-F11A-4131-8D4A-4C37E69A40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8694-1522-4C0A-9657-FAAD766FC66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Registry Hives</a:t>
            </a:r>
            <a:endParaRPr b="0" lang="en-US" sz="4000" spc="-1" strike="noStrike">
              <a:solidFill>
                <a:srgbClr val="fe9900"/>
              </a:solidFill>
              <a:latin typeface="Arial"/>
            </a:endParaRPr>
          </a:p>
        </p:txBody>
      </p:sp>
      <p:sp>
        <p:nvSpPr>
          <p:cNvPr id="109"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Examine hivelist key</a:t>
            </a:r>
            <a:r>
              <a:rPr b="0" lang="en-US" sz="2000" spc="-1" strike="noStrike">
                <a:solidFill>
                  <a:srgbClr val="ffffff"/>
                </a:solidFill>
                <a:latin typeface="Arial"/>
              </a:rPr>
              <a:t> </a:t>
            </a:r>
            <a:r>
              <a:rPr b="0" lang="en-US" sz="1400" spc="-1" strike="noStrike">
                <a:solidFill>
                  <a:srgbClr val="ffffff"/>
                </a:solidFill>
                <a:latin typeface="Arial"/>
              </a:rPr>
              <a:t>(HKEY_LOCAL_MACHINE\System\CurrentControlSet\Control\hivelist</a:t>
            </a:r>
            <a:r>
              <a:rPr b="0" lang="en-US" sz="1600" spc="-1" strike="noStrike">
                <a:solidFill>
                  <a:srgbClr val="ffffff"/>
                </a:solidFill>
                <a:latin typeface="Arial"/>
              </a:rPr>
              <a:t>)</a:t>
            </a:r>
            <a:endParaRPr b="0" lang="en-US" sz="16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1800" spc="-1" strike="noStrike">
                <a:solidFill>
                  <a:srgbClr val="ffffff"/>
                </a:solidFill>
                <a:latin typeface="Arial"/>
              </a:rPr>
              <a:t>Use RUNAS to create a process under a different account than the one you are using</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new hive loaded in Hivelis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the CMD &amp; notice hive is unloaded</a:t>
            </a:r>
            <a:endParaRPr b="0" lang="en-US" sz="14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1800" spc="-1" strike="noStrike">
                <a:solidFill>
                  <a:srgbClr val="ffffff"/>
                </a:solidFill>
                <a:latin typeface="Arial"/>
              </a:rPr>
              <a:t>Load, examine, and unload a hive (e.g. to fix a registry key)</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n REGEDT32</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HKEY_LOCAL_MACHINE window</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HKEY_LOCAL_MACHINE (on left pa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Load Hiv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wse to \windows\repair (saved copy of registry from date of install)</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syste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sked for name of key, enter “testhive”</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e this new registry hive (double click and drill down) -- could make changes at this poi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Unload hiv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DEE7A9F-57D3-413F-8FFC-E8485EACE7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Lab</a:t>
            </a:r>
            <a:endParaRPr b="0" lang="en-US" sz="4000" spc="-1" strike="noStrike">
              <a:solidFill>
                <a:srgbClr val="fe9900"/>
              </a:solidFill>
              <a:latin typeface="Arial"/>
            </a:endParaRPr>
          </a:p>
        </p:txBody>
      </p:sp>
      <p:sp>
        <p:nvSpPr>
          <p:cNvPr id="111" name="PlaceHolder 2"/>
          <p:cNvSpPr>
            <a:spLocks noGrp="1"/>
          </p:cNvSpPr>
          <p:nvPr>
            <p:ph/>
          </p:nvPr>
        </p:nvSpPr>
        <p:spPr>
          <a:xfrm>
            <a:off x="281160" y="1152360"/>
            <a:ext cx="8388000" cy="534672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Font and point siz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Word wrap</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mon &amp; filter to Notepad.ex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gmon log, find location of user-specific Notepad setting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 line to jump to Regedit</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top level Notepad user settings key</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run Notepad and confirm font and word wrap reset to default sett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35D9E5-2821-4EDE-8510-045A4B32BD14}"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9C6E74-5D4F-48AF-B0B5-A8E70CDC2D4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Scrip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Classes and Objec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Structure and Ke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Hiv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the Registry with Regm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180A9C-1D15-4E74-8FB3-FDE6B821B1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Using Example WMI Scri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running processes with Resource Kit “ps.vb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ervices with “service.vb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credi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the Technet Scripting Center and pick a scrip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and paste it into Notepad and save it as testscript.vb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scrip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24E539-7938-4707-89F1-0C411CC5DD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WMI Job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rocess Explorer and select </a:t>
            </a:r>
            <a:br>
              <a:rPr sz="2400"/>
            </a:br>
            <a:r>
              <a:rPr b="0" lang="en-US" sz="2400" spc="-1" strike="noStrike">
                <a:solidFill>
                  <a:srgbClr val="ffffff"/>
                </a:solidFill>
                <a:latin typeface="Arial"/>
              </a:rPr>
              <a:t>Options|Highlight Job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sinfo.exe or wmic.exe</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WMI to query XP/Server 2003 Product Activation</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child of a Svchost that appear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service in the Svchos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properties of the Job object in the Properties tab of the child pro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0A6507-8973-43FE-9D5D-7ACF4BB04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Classes</a:t>
            </a:r>
            <a:endParaRPr b="0" lang="en-US" sz="4000" spc="-1" strike="noStrike">
              <a:solidFill>
                <a:srgbClr val="fe9900"/>
              </a:solidFill>
              <a:latin typeface="Arial"/>
            </a:endParaRPr>
          </a:p>
        </p:txBody>
      </p:sp>
      <p:sp>
        <p:nvSpPr>
          <p:cNvPr id="97" name="PlaceHolder 2"/>
          <p:cNvSpPr>
            <a:spLocks noGrp="1"/>
          </p:cNvSpPr>
          <p:nvPr>
            <p:ph/>
          </p:nvPr>
        </p:nvSpPr>
        <p:spPr>
          <a:xfrm>
            <a:off x="287280" y="990360"/>
            <a:ext cx="8515440" cy="53514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BEMTEST (included with Windows 2000 and higher)</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 to root\cimv2</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Enum Classes and check Recursive</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double-click on one to view its defined propertie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5"/>
          <a:stretch/>
        </p:blipFill>
        <p:spPr>
          <a:xfrm>
            <a:off x="395280" y="2744640"/>
            <a:ext cx="5364000" cy="3505320"/>
          </a:xfrm>
          <a:prstGeom prst="rect">
            <a:avLst/>
          </a:prstGeom>
          <a:ln w="0">
            <a:noFill/>
          </a:ln>
        </p:spPr>
      </p:pic>
      <p:pic>
        <p:nvPicPr>
          <p:cNvPr id="99" name="" descr=""/>
          <p:cNvPicPr/>
          <p:nvPr/>
        </p:nvPicPr>
        <p:blipFill>
          <a:blip r:embed="rId6"/>
          <a:stretch/>
        </p:blipFill>
        <p:spPr>
          <a:xfrm>
            <a:off x="4032360" y="2565360"/>
            <a:ext cx="4248000" cy="3967200"/>
          </a:xfrm>
          <a:prstGeom prst="rect">
            <a:avLst/>
          </a:prstGeom>
          <a:ln w="0">
            <a:noFill/>
          </a:ln>
        </p:spPr>
      </p:pic>
      <p:sp>
        <p:nvSpPr>
          <p:cNvPr id="4" name="PlaceHolder 3"/>
          <p:cNvSpPr>
            <a:spLocks noGrp="1"/>
          </p:cNvSpPr>
          <p:nvPr>
            <p:ph type="sldNum" idx="2"/>
          </p:nvPr>
        </p:nvSpPr>
        <p:spPr/>
        <p:txBody>
          <a:bodyPr/>
          <a:p>
            <a:fld id="{5B0EB3EB-8B22-4B53-8DEA-EBBB4EA8D2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Objects</a:t>
            </a:r>
            <a:endParaRPr b="0" lang="en-US" sz="4000" spc="-1" strike="noStrike">
              <a:solidFill>
                <a:srgbClr val="fe9900"/>
              </a:solidFill>
              <a:latin typeface="Arial"/>
            </a:endParaRPr>
          </a:p>
        </p:txBody>
      </p:sp>
      <p:sp>
        <p:nvSpPr>
          <p:cNvPr id="101" name="PlaceHolder 2"/>
          <p:cNvSpPr>
            <a:spLocks noGrp="1"/>
          </p:cNvSpPr>
          <p:nvPr>
            <p:ph/>
          </p:nvPr>
        </p:nvSpPr>
        <p:spPr>
          <a:xfrm>
            <a:off x="457200" y="1371240"/>
            <a:ext cx="807552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ny class from the class list and click Instances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double click on one to open its properties</a:t>
            </a:r>
            <a:endParaRPr b="0" lang="en-US" sz="2000" spc="-1" strike="noStrike">
              <a:solidFill>
                <a:srgbClr val="ffffff"/>
              </a:solidFill>
              <a:latin typeface="Arial"/>
            </a:endParaRPr>
          </a:p>
        </p:txBody>
      </p:sp>
      <p:pic>
        <p:nvPicPr>
          <p:cNvPr id="102" name="" descr=""/>
          <p:cNvPicPr/>
          <p:nvPr/>
        </p:nvPicPr>
        <p:blipFill>
          <a:blip r:embed="rId3"/>
          <a:stretch/>
        </p:blipFill>
        <p:spPr>
          <a:xfrm>
            <a:off x="539640" y="2276640"/>
            <a:ext cx="6300720" cy="4078080"/>
          </a:xfrm>
          <a:prstGeom prst="rect">
            <a:avLst/>
          </a:prstGeom>
          <a:ln w="0">
            <a:noFill/>
          </a:ln>
        </p:spPr>
      </p:pic>
      <p:pic>
        <p:nvPicPr>
          <p:cNvPr id="103" name="" descr=""/>
          <p:cNvPicPr/>
          <p:nvPr/>
        </p:nvPicPr>
        <p:blipFill>
          <a:blip r:embed="rId4"/>
          <a:stretch/>
        </p:blipFill>
        <p:spPr>
          <a:xfrm>
            <a:off x="3743280" y="2168640"/>
            <a:ext cx="4600800" cy="4295520"/>
          </a:xfrm>
          <a:prstGeom prst="rect">
            <a:avLst/>
          </a:prstGeom>
          <a:ln w="0">
            <a:noFill/>
          </a:ln>
        </p:spPr>
      </p:pic>
      <p:sp>
        <p:nvSpPr>
          <p:cNvPr id="4" name="PlaceHolder 3"/>
          <p:cNvSpPr>
            <a:spLocks noGrp="1"/>
          </p:cNvSpPr>
          <p:nvPr>
            <p:ph type="sldNum" idx="2"/>
          </p:nvPr>
        </p:nvSpPr>
        <p:spPr/>
        <p:txBody>
          <a:bodyPr/>
          <a:p>
            <a:fld id="{C7F6E9DC-6970-4A5A-8CC4-A78DAD7BD9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un with the Hardware Ke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Hardware\Description\System\CentralProcessor\0</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ProcessorNameString to “Cray Supercomputer 10,000GHz”</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on My Computer and view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A6B66D-A91B-4A07-89EC-701EFE499F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List of Profiles Stored on a Computer</a:t>
            </a:r>
            <a:endParaRPr b="0" lang="en-US" sz="4000" spc="-1" strike="noStrike">
              <a:solidFill>
                <a:srgbClr val="fe9900"/>
              </a:solidFill>
              <a:latin typeface="Arial"/>
            </a:endParaRPr>
          </a:p>
        </p:txBody>
      </p:sp>
      <p:sp>
        <p:nvSpPr>
          <p:cNvPr id="107"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Software\Microsoft\</a:t>
            </a:r>
            <a:br>
              <a:rPr sz="2800"/>
            </a:br>
            <a:r>
              <a:rPr b="0" lang="en-US" sz="2800" spc="-1" strike="noStrike">
                <a:solidFill>
                  <a:srgbClr val="ffffff"/>
                </a:solidFill>
                <a:latin typeface="Arial"/>
              </a:rPr>
              <a:t>	</a:t>
            </a:r>
            <a:r>
              <a:rPr b="0" lang="en-US" sz="2800" spc="-1" strike="noStrike">
                <a:solidFill>
                  <a:srgbClr val="ffffff"/>
                </a:solidFill>
                <a:latin typeface="Arial"/>
              </a:rPr>
              <a:t>Windows NT\CurrentVersion\ProfileLis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list of profiles stored on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LOCAL_SERVICE and NETWORK_SERVICE profil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profile informa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corresponding list in Control Panel-&gt;</a:t>
            </a:r>
            <a:br>
              <a:rPr sz="2800"/>
            </a:br>
            <a:r>
              <a:rPr b="0" lang="en-US" sz="2800" spc="-1" strike="noStrike">
                <a:solidFill>
                  <a:srgbClr val="ffffff"/>
                </a:solidFill>
                <a:latin typeface="Arial"/>
              </a:rPr>
              <a:t>System-&gt;Advanced-&gt;Settings in the User Profile s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C344C3-85A0-4338-A894-311124E188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0-27T16:01:17Z</cp:lastPrinted>
  <dcterms:modified xsi:type="dcterms:W3CDTF">2006-02-07T23:38:22Z</dcterms:modified>
  <cp:revision>70</cp:revision>
  <dc:subject>Windows Operating Systems Internals Course</dc:subject>
  <dc:title>Unit OS12: Lab Description &amp; Lab Manual</dc:title>
</cp:coreProperties>
</file>