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1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00.wmf" ContentType="image/x-wmf"/>
  <Override PartName="/ppt/media/image49.wmf" ContentType="image/x-wmf"/>
  <Override PartName="/ppt/media/image50.wmf" ContentType="image/x-wmf"/>
  <Override PartName="/ppt/media/image147.wmf" ContentType="image/x-wmf"/>
  <Override PartName="/ppt/media/image143.wmf" ContentType="image/x-wmf"/>
  <Override PartName="/ppt/media/image51.wmf" ContentType="image/x-wmf"/>
  <Override PartName="/ppt/media/image148.wmf" ContentType="image/x-wmf"/>
  <Override PartName="/ppt/media/image144.wmf" ContentType="image/x-wmf"/>
  <Override PartName="/ppt/media/image52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141.wmf" ContentType="image/x-wmf"/>
  <Override PartName="/ppt/media/image55.wmf" ContentType="image/x-wmf"/>
  <Override PartName="/ppt/media/image136.wmf" ContentType="image/x-wmf"/>
  <Override PartName="/ppt/media/image142.wmf" ContentType="image/x-wmf"/>
  <Override PartName="/ppt/media/image5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7.wmf" ContentType="image/x-wmf"/>
  <Override PartName="/ppt/media/image29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48A-7293-42BF-92B0-FD595FA5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EF9-9D3D-4004-B8BB-B24E6FB7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55B-7489-4C52-B444-2F277FA8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E39-9DD7-4843-88E7-01CD8052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8E7-B1E7-4157-9028-3EC35E02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B75-8801-4600-A507-59C664EC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EFD-C524-432C-95B5-4868CDC5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0F3-407B-40FD-A023-E7EDB0C9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50C-7506-4B6F-8C48-E68CD25C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ED9-00BB-45C1-AD26-2E567B17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03E-D002-4A01-9E25-9DDD74A3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9F4-1411-4130-9E38-57610AA6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26A9-478C-4662-B3F2-37BFFC2F2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1752480" cy="5715000"/>
          </a:xfrm>
          <a:prstGeom prst="rect">
            <a:avLst/>
          </a:prstGeom>
          <a:solidFill>
            <a:srgbClr val="b9b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15840"/>
            <a:ext cx="9141120" cy="225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1308240" cy="695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rot="16200000">
            <a:off x="-2078640" y="3374280"/>
            <a:ext cx="586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anning Tree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517840" y="228600"/>
            <a:ext cx="516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isco Networking Academy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Cisco Systems, Inc.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87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image" Target="../media/image94.wmf"/><Relationship Id="rId5" Type="http://schemas.openxmlformats.org/officeDocument/2006/relationships/image" Target="../media/image95.wmf"/><Relationship Id="rId6" Type="http://schemas.openxmlformats.org/officeDocument/2006/relationships/image" Target="../media/image96.wmf"/><Relationship Id="rId7" Type="http://schemas.openxmlformats.org/officeDocument/2006/relationships/image" Target="../media/image97.wmf"/><Relationship Id="rId8" Type="http://schemas.openxmlformats.org/officeDocument/2006/relationships/image" Target="../media/image98.wmf"/><Relationship Id="rId9" Type="http://schemas.openxmlformats.org/officeDocument/2006/relationships/image" Target="../media/image99.wmf"/><Relationship Id="rId10" Type="http://schemas.openxmlformats.org/officeDocument/2006/relationships/image" Target="../media/image100.wmf"/><Relationship Id="rId11" Type="http://schemas.openxmlformats.org/officeDocument/2006/relationships/image" Target="../media/image101.wmf"/><Relationship Id="rId12" Type="http://schemas.openxmlformats.org/officeDocument/2006/relationships/image" Target="../media/image10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103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103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8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111.wmf"/><Relationship Id="rId3" Type="http://schemas.openxmlformats.org/officeDocument/2006/relationships/image" Target="../media/image112.wmf"/><Relationship Id="rId4" Type="http://schemas.openxmlformats.org/officeDocument/2006/relationships/image" Target="../media/image113.wmf"/><Relationship Id="rId5" Type="http://schemas.openxmlformats.org/officeDocument/2006/relationships/image" Target="../media/image114.wmf"/><Relationship Id="rId6" Type="http://schemas.openxmlformats.org/officeDocument/2006/relationships/image" Target="../media/image115.wmf"/><Relationship Id="rId7" Type="http://schemas.openxmlformats.org/officeDocument/2006/relationships/image" Target="../media/image116.wmf"/><Relationship Id="rId8" Type="http://schemas.openxmlformats.org/officeDocument/2006/relationships/image" Target="../media/image117.wmf"/><Relationship Id="rId9" Type="http://schemas.openxmlformats.org/officeDocument/2006/relationships/image" Target="../media/image118.wmf"/><Relationship Id="rId10" Type="http://schemas.openxmlformats.org/officeDocument/2006/relationships/image" Target="../media/image116.wmf"/><Relationship Id="rId11" Type="http://schemas.openxmlformats.org/officeDocument/2006/relationships/image" Target="../media/image119.wmf"/><Relationship Id="rId12" Type="http://schemas.openxmlformats.org/officeDocument/2006/relationships/image" Target="../media/image120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7.wmf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24.wmf"/><Relationship Id="rId5" Type="http://schemas.openxmlformats.org/officeDocument/2006/relationships/image" Target="../media/image125.wmf"/><Relationship Id="rId6" Type="http://schemas.openxmlformats.org/officeDocument/2006/relationships/image" Target="../media/image126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36.wmf"/><Relationship Id="rId9" Type="http://schemas.openxmlformats.org/officeDocument/2006/relationships/image" Target="../media/image137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8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39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40.wmf"/><Relationship Id="rId6" Type="http://schemas.openxmlformats.org/officeDocument/2006/relationships/image" Target="../media/image126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1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2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4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6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7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8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image" Target="../media/image63.wmf"/><Relationship Id="rId10" Type="http://schemas.openxmlformats.org/officeDocument/2006/relationships/image" Target="../media/image64.wmf"/><Relationship Id="rId11" Type="http://schemas.openxmlformats.org/officeDocument/2006/relationships/image" Target="../media/image65.wmf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0400" y="327672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20968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86132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823752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114720" y="2259000"/>
            <a:ext cx="248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288756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2284560" y="4906800"/>
            <a:ext cx="6511680" cy="630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7786800" y="5122800"/>
            <a:ext cx="237960" cy="3700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816300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8924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57960" y="5551560"/>
            <a:ext cx="173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2813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935840" y="3260880"/>
            <a:ext cx="52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35840" y="3046320"/>
            <a:ext cx="180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27920" y="2689200"/>
            <a:ext cx="12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5304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2740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51360" y="3405240"/>
            <a:ext cx="188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311472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flipV="1">
            <a:off x="3564000" y="3760920"/>
            <a:ext cx="13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3840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96388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35840" y="4406760"/>
            <a:ext cx="52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3672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304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0"/>
          <a:stretch/>
        </p:blipFill>
        <p:spPr>
          <a:xfrm>
            <a:off x="469584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1"/>
          <a:stretch/>
        </p:blipFill>
        <p:spPr>
          <a:xfrm>
            <a:off x="371628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33116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3540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2"/>
          <a:stretch/>
        </p:blipFill>
        <p:spPr>
          <a:xfrm>
            <a:off x="288756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96316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43200" y="396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895480" y="32767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119052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s, leave the switching tables alone and just look at what happens with the frames. Host Kahn sends out a Layer 2 broadcast frame, like an ARP Requ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2860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9376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83138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1910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29638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23605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78627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82389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2655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342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8"/>
          <a:stretch/>
        </p:blipFill>
        <p:spPr>
          <a:xfrm>
            <a:off x="28893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801216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121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038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3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037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2768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9"/>
          <a:stretch/>
        </p:blipFill>
        <p:spPr>
          <a:xfrm>
            <a:off x="3191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 flipV="1">
            <a:off x="36399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147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0402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121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1304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893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0"/>
          <a:stretch/>
        </p:blipFill>
        <p:spPr>
          <a:xfrm>
            <a:off x="47721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1"/>
          <a:stretch/>
        </p:blipFill>
        <p:spPr>
          <a:xfrm>
            <a:off x="37926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4071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17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2"/>
          <a:stretch/>
        </p:blipFill>
        <p:spPr>
          <a:xfrm>
            <a:off x="29638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0394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48720" y="3276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7848720" y="40381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114300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t is a Layer 2 broadcast frame, both switches, Moe and Larry, flood the frame out all ports, including their port A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18916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784080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821700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09420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286704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226368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6"/>
          <a:stretch/>
        </p:blipFill>
        <p:spPr>
          <a:xfrm>
            <a:off x="776592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814212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16872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770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279252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791532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1532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0704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3252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688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084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9"/>
          <a:stretch/>
        </p:blipFill>
        <p:spPr>
          <a:xfrm>
            <a:off x="309420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3543480" y="3760920"/>
            <a:ext cx="13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1788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94336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91532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1620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9252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0"/>
          <a:stretch/>
        </p:blipFill>
        <p:spPr>
          <a:xfrm>
            <a:off x="467532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1"/>
          <a:stretch/>
        </p:blipFill>
        <p:spPr>
          <a:xfrm>
            <a:off x="369576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31028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1488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2"/>
          <a:stretch/>
        </p:blipFill>
        <p:spPr>
          <a:xfrm>
            <a:off x="286704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94264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98640" y="396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874960" y="32767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35800" y="3276720"/>
            <a:ext cx="872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80080" y="3733920"/>
            <a:ext cx="872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143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switches receive the same broadcast, but on a different port.  Doing what switches do, both switches flood the duplicate broadcast frame out their other 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2860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79376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83138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1910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29638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3605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78627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82389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2655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342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28893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8012160" y="320040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121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038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93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037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9"/>
          <a:stretch/>
        </p:blipFill>
        <p:spPr>
          <a:xfrm>
            <a:off x="3191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 flipV="1">
            <a:off x="36399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147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0402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121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893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47721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37926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4071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117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2"/>
          <a:stretch/>
        </p:blipFill>
        <p:spPr>
          <a:xfrm>
            <a:off x="29638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0394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276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848720" y="40381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77680" y="3505320"/>
            <a:ext cx="91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76240" y="4038480"/>
            <a:ext cx="91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1143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we go again, with the switches flooding the same broadcast again out its other ports. This results in duplicate frames, known a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oadcast st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3084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2860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79376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83138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1910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29638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23605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78627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7"/>
          <a:stretch/>
        </p:blipFill>
        <p:spPr>
          <a:xfrm>
            <a:off x="82389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2655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8"/>
          <a:stretch/>
        </p:blipFill>
        <p:spPr>
          <a:xfrm>
            <a:off x="28893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8012160" y="320040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121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038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293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037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9"/>
          <a:stretch/>
        </p:blipFill>
        <p:spPr>
          <a:xfrm>
            <a:off x="3191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flipV="1">
            <a:off x="36399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147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0402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121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893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0"/>
          <a:stretch/>
        </p:blipFill>
        <p:spPr>
          <a:xfrm>
            <a:off x="47721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1"/>
          <a:stretch/>
        </p:blipFill>
        <p:spPr>
          <a:xfrm>
            <a:off x="37926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4071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17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2"/>
          <a:stretch/>
        </p:blipFill>
        <p:spPr>
          <a:xfrm>
            <a:off x="29638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0394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848720" y="3276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848720" y="40381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6248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96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09880" y="35053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971800" y="3276360"/>
            <a:ext cx="763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1143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that Layer 2 broadcasts not only take up network bandwidth, but must be processed by each host. This can severely impact a network, to the point of making it unus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3084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277800" y="3429000"/>
            <a:ext cx="423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to the Resc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351240" y="3975120"/>
            <a:ext cx="20588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65320" y="2881440"/>
            <a:ext cx="0" cy="9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607920" y="2881440"/>
            <a:ext cx="193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116400" y="2303640"/>
            <a:ext cx="1415880" cy="44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404120" y="1981080"/>
            <a:ext cx="838080" cy="74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5216400" y="3782880"/>
          <a:ext cx="11718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6400" y="3782880"/>
                    <a:ext cx="1171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5216400" y="2560680"/>
          <a:ext cx="1171800" cy="52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2560680"/>
                    <a:ext cx="1171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2643120" y="2560680"/>
          <a:ext cx="1171800" cy="52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43120" y="2560680"/>
                    <a:ext cx="1171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2514600" y="3782880"/>
          <a:ext cx="1170000" cy="52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14600" y="3782880"/>
                    <a:ext cx="1170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3222720" y="3075120"/>
            <a:ext cx="0" cy="51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059360" y="2624040"/>
            <a:ext cx="963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24520" y="3139920"/>
            <a:ext cx="0" cy="51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116400" y="2109960"/>
            <a:ext cx="1222200" cy="385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20520000">
            <a:off x="5863680" y="1981080"/>
            <a:ext cx="1640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adcast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8600" y="3591000"/>
            <a:ext cx="1413000" cy="253800"/>
          </a:xfrm>
          <a:prstGeom prst="rect">
            <a:avLst/>
          </a:prstGeom>
          <a:solidFill>
            <a:srgbClr val="f6da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23840" y="3549600"/>
            <a:ext cx="145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by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572000"/>
            <a:ext cx="739152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es forward broadcast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s lo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ps can cause broadcast storms, exponentially proliferate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redundant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unes topology to a minimal spanning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lient to topology changes and device fail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function of the Spanning Tree Protocol (STP) is t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low redundant switched/bridged paths without suffering the effects of loops in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80920" y="1371600"/>
            <a:ext cx="540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ing Spanning-Tre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057400" y="2133720"/>
            <a:ext cx="685800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 is used to calculate a loop-free pa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ning-tree frames called bridge protocol data units (BPDUs) are sent and received by all switches in the network at regular intervals and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d to determine the spanning tree top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parate instance of STP runs within each configured V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VLANs are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287440" y="2135160"/>
            <a:ext cx="6245280" cy="911160"/>
          </a:xfrm>
          <a:prstGeom prst="rect">
            <a:avLst/>
          </a:prstGeom>
          <a:solidFill>
            <a:srgbClr val="f6da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 initially set, later modified by 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7440" y="5411880"/>
            <a:ext cx="6321600" cy="987480"/>
          </a:xfrm>
          <a:prstGeom prst="rect">
            <a:avLst/>
          </a:prstGeom>
          <a:solidFill>
            <a:srgbClr val="f6da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ports can be configur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ediately enter STP forwar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60280" y="1512720"/>
            <a:ext cx="464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STP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30840" y="3240000"/>
            <a:ext cx="2301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057400" y="1905120"/>
            <a:ext cx="67057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BPDUs he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listening for fr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learning add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rames forwarded, learning add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no BPDUs he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5960" y="1295280"/>
            <a:ext cx="464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STP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1752480" cy="5715000"/>
          </a:xfrm>
          <a:prstGeom prst="rect">
            <a:avLst/>
          </a:prstGeom>
          <a:solidFill>
            <a:srgbClr val="b9b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915840"/>
            <a:ext cx="9141120" cy="225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1308240" cy="69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6200000">
            <a:off x="-2078640" y="3374280"/>
            <a:ext cx="586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anning Tree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81080" y="24526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960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077320" y="26812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71800" y="2071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0718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668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057400" y="49672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7620120" y="5195880"/>
            <a:ext cx="241200" cy="39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800100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71800" y="466236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57294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259092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772400" y="32148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1143000"/>
            <a:ext cx="6934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Paths and No Spanning Tree. So, what’s the probl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72400" y="29862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60496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511956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114800" y="3200400"/>
          <a:ext cx="1689120" cy="1165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14800" y="3200400"/>
                    <a:ext cx="16891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048120" y="5500800"/>
            <a:ext cx="649080" cy="653760"/>
          </a:xfrm>
          <a:custGeom>
            <a:avLst/>
            <a:gdLst/>
            <a:ahLst/>
            <a:rect l="l" t="t" r="r" b="b"/>
            <a:pathLst>
              <a:path w="409" h="412">
                <a:moveTo>
                  <a:pt x="0" y="0"/>
                </a:moveTo>
                <a:lnTo>
                  <a:pt x="0" y="411"/>
                </a:lnTo>
                <a:lnTo>
                  <a:pt x="408" y="41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595800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2895480" y="5195880"/>
            <a:ext cx="241560" cy="39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5320" y="374796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2986200"/>
            <a:ext cx="1522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747960"/>
            <a:ext cx="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443376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71800" y="5705640"/>
          <a:ext cx="1689120" cy="11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5705640"/>
                    <a:ext cx="168912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362320" y="3505320"/>
          <a:ext cx="1231920" cy="554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62320" y="3505320"/>
                    <a:ext cx="12319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048120" y="40384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7840" y="228600"/>
            <a:ext cx="516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isco Networking Academy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133720" y="2655720"/>
            <a:ext cx="6858000" cy="28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principle:  Build a loop-free tree from some identified point known as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t paths allowed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only one active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Radia Per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24200" y="1523880"/>
            <a:ext cx="54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 Algorithm (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209680" y="1562040"/>
            <a:ext cx="685800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 Electing a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Electing Root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Electing Designated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witches send 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tion Bridge Protocol Data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figuration BPDU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DU’s are sent out all interfaces every two seconds (by default - tun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rts ar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the initial Spanning Tree is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3503520" y="1905120"/>
          <a:ext cx="4152960" cy="60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1905120"/>
                    <a:ext cx="415296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828800" y="2133720"/>
            <a:ext cx="731520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 Algorithm (ST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Protocol Data Units Fields (BPDU) (FY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elds used in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 BPDU are provided for your information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discussion of STA you may wish to refer to this protocol to see how the information is sent and rece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209680" y="1455840"/>
            <a:ext cx="6553440" cy="50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Ident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byte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byte): Not really utilized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byte): Used with topology changes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 bytes): Indicates current Root Bridge on the network,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idge Pri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idge MAC Add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as the Bridge Identifier of the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209680" y="1447920"/>
            <a:ext cx="66294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to Ro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 bytes): Cost of the path from the bridge sending the BDPU to the Root Bridge indicated in the Root ID field.  Cost is based on bandwid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 bytes): Bridge sending the BD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ytes: Bridg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bytes: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Port on bridge sending BDPU, including Port Priorit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209680" y="1447920"/>
            <a:ext cx="6629400" cy="39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Age of BDPU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When BDPU should be discarded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lo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How often BDPU’s are to be sent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How long bridge should remain in listening and learning states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459160" y="3029040"/>
            <a:ext cx="5173560" cy="4856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2406600" y="4383000"/>
            <a:ext cx="5621400" cy="4860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7305840" y="451008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7543800" y="451008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6946920" y="319392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7245360" y="319392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7"/>
          <a:stretch/>
        </p:blipFill>
        <p:spPr>
          <a:xfrm>
            <a:off x="7604280" y="588024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8"/>
          <a:stretch/>
        </p:blipFill>
        <p:spPr>
          <a:xfrm>
            <a:off x="2400480" y="5716440"/>
            <a:ext cx="5619600" cy="4860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9"/>
          <a:stretch/>
        </p:blipFill>
        <p:spPr>
          <a:xfrm>
            <a:off x="7364520" y="588024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0"/>
          <a:stretch/>
        </p:blipFill>
        <p:spPr>
          <a:xfrm>
            <a:off x="7604280" y="588024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1"/>
          <a:stretch/>
        </p:blipFill>
        <p:spPr>
          <a:xfrm>
            <a:off x="2938320" y="593568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6885000" y="25909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69040" y="39625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5334120"/>
            <a:ext cx="84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38320" y="259092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78200" y="538812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00240" y="259092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81080" y="396072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41560" y="527832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05320" y="350532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5320" y="483876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35320" y="621036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29320" y="352260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85000" y="4840200"/>
            <a:ext cx="137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05600" y="6157800"/>
            <a:ext cx="1376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2"/>
          <a:stretch/>
        </p:blipFill>
        <p:spPr>
          <a:xfrm>
            <a:off x="2998800" y="319392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657520" y="342900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15200" y="335268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91520" y="472428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990720"/>
            <a:ext cx="731520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witches with redundant paths Can you find th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057400" y="1143000"/>
            <a:ext cx="685800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Steps to Spanning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:  Electing a Roo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: Electing Root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Cost or Por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Path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3: Electing Designated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Cost or Por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Path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362320" y="1636560"/>
            <a:ext cx="662940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 Electing a Root B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ep is for switches to select a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b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bridge from which all other paths are dec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switch can be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ion of a root bridge is decid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Lowest Bridg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Lowest Bridge ID (tie-bre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81080" y="24526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77320" y="26812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2071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6668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057400" y="49672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7620120" y="5195880"/>
            <a:ext cx="241200" cy="393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800100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71800" y="466236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259092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772400" y="32148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29862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60496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511956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114800" y="3200400"/>
          <a:ext cx="1689120" cy="11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3200400"/>
                    <a:ext cx="16891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048120" y="5500800"/>
            <a:ext cx="649080" cy="653760"/>
          </a:xfrm>
          <a:custGeom>
            <a:avLst/>
            <a:gdLst/>
            <a:ahLst/>
            <a:rect l="l" t="t" r="r" b="b"/>
            <a:pathLst>
              <a:path w="409" h="412">
                <a:moveTo>
                  <a:pt x="0" y="0"/>
                </a:moveTo>
                <a:lnTo>
                  <a:pt x="0" y="411"/>
                </a:lnTo>
                <a:lnTo>
                  <a:pt x="408" y="41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595800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2895480" y="5195880"/>
            <a:ext cx="241560" cy="393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05320" y="374796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2986200"/>
            <a:ext cx="1522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747960"/>
            <a:ext cx="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443376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971800" y="5705640"/>
          <a:ext cx="1689120" cy="116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71800" y="5705640"/>
                    <a:ext cx="168912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362320" y="3505320"/>
          <a:ext cx="1231920" cy="55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62320" y="3505320"/>
                    <a:ext cx="12319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048120" y="40384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20718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57294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143000"/>
            <a:ext cx="731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Kahn sends an Ethernet frame to Host Baran. Both Switch Moe and Switch Larry see the frame and record Host Kahn’s Mac Address in their switching 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057400" y="1371600"/>
            <a:ext cx="685800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erical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 with the with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st bridge priority is the root b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es use BPDU’s to accomplish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witches consider themselves as the root bridge until they find out otherw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isco Catalyst switches have the default Bridge priori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76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’s a tie!  So then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97640" y="392904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67480" y="5300640"/>
            <a:ext cx="84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757920" y="348948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13600" y="4807080"/>
            <a:ext cx="137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34200" y="6124680"/>
            <a:ext cx="1376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1623960"/>
            <a:ext cx="295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 Pri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757520" y="2970360"/>
          <a:ext cx="7337160" cy="325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2970360"/>
                    <a:ext cx="733716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2998440" y="1700280"/>
            <a:ext cx="492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tch Moe:  Bridge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981080" y="1319040"/>
            <a:ext cx="6858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case of a tie, the Bridge ID is us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ID is the MAC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igned to the individual sw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Bridge ID (MAC address) is the tiebreak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MAC addresses are unique, this ensures that only one bridge will have the lowes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re are other tie breakers, if these values are not unique, but we will not cover those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128680" y="1905120"/>
          <a:ext cx="6926400" cy="37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905120"/>
                    <a:ext cx="69264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97640" y="392904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67480" y="5300640"/>
            <a:ext cx="84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757920" y="348948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13600" y="4807080"/>
            <a:ext cx="137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1414440"/>
            <a:ext cx="60199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 Priorities and Bridge 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ne is the low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7189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73960" y="400680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57920" y="348948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638320" y="2286000"/>
            <a:ext cx="8384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39680" y="1959120"/>
            <a:ext cx="444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: Moe becomes the roo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11720" y="1523880"/>
            <a:ext cx="169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got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50280" y="60958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981080" y="1940040"/>
            <a:ext cx="685800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2: Electing Root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root bridge is selected, switches (bridges) must locate redundant paths to the root bridge and block all but one of these p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es use BPDU’s to accomplish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switch make the decision on which port to use, known as the root port, and which one should be bloc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7162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57920" y="3489480"/>
            <a:ext cx="2005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74360" y="620856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95720" y="487692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2200" y="480060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38520" y="533412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67840" y="1538280"/>
            <a:ext cx="310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ndan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507348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01028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55028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981080" y="1349280"/>
            <a:ext cx="68580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Cost (or Port C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Cost is used to help find the “cheapest” or “fastest” path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port cost is usually based on the medium or bandwidth of the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isco Catalyst switches, this value is derived by dividing 1000 by the speed of the media in megabits per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Ethernet:  1,000/10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Ethernet:  1,000/100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43800" y="2362320"/>
            <a:ext cx="241200" cy="393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924680" y="2362320"/>
            <a:ext cx="241560" cy="393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43200" y="1828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514600" y="2362320"/>
            <a:ext cx="241200" cy="39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905120" y="4648320"/>
            <a:ext cx="658476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7467480" y="4876920"/>
            <a:ext cx="241560" cy="393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7848720" y="4876920"/>
            <a:ext cx="241200" cy="393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19520" y="43434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533412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2438280" y="4876920"/>
            <a:ext cx="241560" cy="393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0120" y="2895480"/>
            <a:ext cx="53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666880"/>
            <a:ext cx="0" cy="243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228600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480060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57680" y="5257800"/>
            <a:ext cx="687240" cy="596880"/>
          </a:xfrm>
          <a:custGeom>
            <a:avLst/>
            <a:gdLst/>
            <a:ahLst/>
            <a:rect l="l" t="t" r="r" b="b"/>
            <a:pathLst>
              <a:path w="433" h="376">
                <a:moveTo>
                  <a:pt x="0" y="0"/>
                </a:moveTo>
                <a:lnTo>
                  <a:pt x="0" y="375"/>
                </a:lnTo>
                <a:lnTo>
                  <a:pt x="432" y="375"/>
                </a:lnTo>
                <a:lnTo>
                  <a:pt x="432" y="36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2743200" y="4876920"/>
            <a:ext cx="241200" cy="393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0400" y="34290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2666880"/>
            <a:ext cx="1526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4290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114800"/>
            <a:ext cx="53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5040" y="134928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2240" y="571644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1676520"/>
            <a:ext cx="3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533412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4038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4343400" y="2895480"/>
            <a:ext cx="990720" cy="881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3352680" y="5486400"/>
            <a:ext cx="990720" cy="880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73680" y="373392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67120" y="640080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2514600" y="3276720"/>
            <a:ext cx="747720" cy="326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90200" y="3595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590560" y="2819520"/>
            <a:ext cx="759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286000" y="2517840"/>
            <a:ext cx="6400800" cy="23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 Pat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ot path cost is the cumulative port costs (path costs)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value is transmitted in the BPDU cost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133720" y="1981080"/>
            <a:ext cx="66294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verything is viewed in relation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directly connected to the root bridge will be the root 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the port with the lowest root path cost will be the root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7189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73960" y="400680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75080" y="620856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696080" y="480060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162920" y="480060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238880" y="5334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29200" y="1625760"/>
            <a:ext cx="204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h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10280" y="502920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0" y="609588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55028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057400" y="1981080"/>
            <a:ext cx="6858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the Path Cost to the root bridge for Curly is higher using Port 1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rect connection to the root bridg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us it becom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n put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le the redundant pa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put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7189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5028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34320" y="4876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0" y="1625760"/>
            <a:ext cx="109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5028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133720" y="2305080"/>
            <a:ext cx="66294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y also has a root port, a direct connection with the root bridge, through Port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n put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le the redundant pa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put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12080" y="385452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48160" y="1636560"/>
            <a:ext cx="10749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701440" y="6095880"/>
            <a:ext cx="110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035560" y="3962520"/>
            <a:ext cx="110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7924680" y="4267080"/>
            <a:ext cx="6098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428640" y="6019560"/>
            <a:ext cx="15228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68520" y="1547640"/>
            <a:ext cx="200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057400" y="1600200"/>
            <a:ext cx="68580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Electing Designated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ngle port for a switch that sends and receives traffic to and from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be thought of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rt that is advertising the lowest cost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ur example, we only have the two obvious choices, which are on switch Mo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had other LAN segments, we could explain designated ports in more detail, but this is fine for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12080" y="385452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830240" y="3429000"/>
            <a:ext cx="17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ated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402240" y="3429000"/>
            <a:ext cx="17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ated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888360" y="1712880"/>
            <a:ext cx="3108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ated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945040" y="188280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6280" y="599760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28800" y="256392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80440" y="277812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856640" y="277812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33840" y="227664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506680" y="277812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903320" y="492444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7405560" y="5140440"/>
            <a:ext cx="238320" cy="369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7781760" y="5140440"/>
            <a:ext cx="238320" cy="369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808360" y="463860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77080" y="556884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2432160" y="5140440"/>
            <a:ext cx="237960" cy="369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554960" y="32781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4960" y="306396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6680" y="270684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72160" y="50688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6520" y="549756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2733840" y="5140440"/>
            <a:ext cx="237960" cy="369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3182760" y="3777840"/>
            <a:ext cx="1357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57520" y="3063960"/>
            <a:ext cx="150840" cy="64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83000" y="3780000"/>
            <a:ext cx="1440" cy="164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54960" y="442440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55840" y="213372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2160" y="556884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791320"/>
            <a:ext cx="1440" cy="42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4314960" y="3278160"/>
            <a:ext cx="981000" cy="828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3335400" y="571176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49920" y="406548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54520" y="657072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2506680" y="3637080"/>
            <a:ext cx="739800" cy="307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82280" y="393696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14300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Switches do not have the destination MAC address in their table so they flood it out all 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32004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315200" y="41144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864440" y="2819520"/>
            <a:ext cx="72838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 is now 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 swit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gin to properly switch frames out the pro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with the correct switching tables and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duplicate fr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057400" y="1600200"/>
            <a:ext cx="685800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LAN and switched internetwork books provide information on Spanning Tree.  For more complex examples, you may wish to try these boo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Catalyst LAN Switching, by Rossi and Rossi, McGraw Hill (Very Read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IE Professional Development:  Cisco LAN Switching, by Clark and Hamilton, Cisco Press (More Advanc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s, by Radia Perlman, Addison Wesley (Excellent, but very acade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209680" y="1676520"/>
            <a:ext cx="66294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ra I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Fast Mode (from Cisco docu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Fast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 brings a port from the blocking state into the forwarding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liminating the forward delay (the amount of time a port waits before changing from its STP learning and listening states to the forwarding stat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2057400" y="1447920"/>
            <a:ext cx="6629400" cy="53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witch is powered up, the forwarding state, even if Port Fast mode is enabled, is delayed to allow the Spanning-Tree Protocol to discover the topology of the network and ensure no temporary loops are form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-tree discovery takes approximately 30 seconds to complete, and no packet forwarding takes place during this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initial discovery, Port Fast-enabled ports transition directly from the blocking state to the forwarding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2080" y="385452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438280" y="1600200"/>
            <a:ext cx="6096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2666880" y="2165400"/>
          <a:ext cx="6032520" cy="47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165400"/>
                    <a:ext cx="6032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4253760" y="1284120"/>
            <a:ext cx="212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e- Po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2658960" y="2184480"/>
          <a:ext cx="619308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8960" y="2184480"/>
                    <a:ext cx="619308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"/>
          <p:cNvSpPr/>
          <p:nvPr/>
        </p:nvSpPr>
        <p:spPr>
          <a:xfrm>
            <a:off x="4253760" y="1284120"/>
            <a:ext cx="215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e- Po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2651040" y="2133720"/>
          <a:ext cx="505800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1040" y="2133720"/>
                    <a:ext cx="50580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4691160" y="1320840"/>
            <a:ext cx="107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9" name=""/>
          <p:cNvGraphicFramePr/>
          <p:nvPr/>
        </p:nvGraphicFramePr>
        <p:xfrm>
          <a:off x="2665440" y="2109960"/>
          <a:ext cx="6327720" cy="46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2109960"/>
                    <a:ext cx="632772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>
            <a:off x="4251240" y="1284120"/>
            <a:ext cx="23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- Po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2614680" y="2109960"/>
          <a:ext cx="5398920" cy="41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4680" y="2109960"/>
                    <a:ext cx="539892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>
            <a:off x="4200840" y="1244520"/>
            <a:ext cx="23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- Por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26280" y="5979960"/>
            <a:ext cx="2587680" cy="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288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4804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8566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7338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5066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9033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74055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77817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083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24321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55496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49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466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721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465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27338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>
            <a:off x="31827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575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5830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49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5584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21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0"/>
          <a:stretch/>
        </p:blipFill>
        <p:spPr>
          <a:xfrm>
            <a:off x="43149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33354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499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545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2"/>
          <a:stretch/>
        </p:blipFill>
        <p:spPr>
          <a:xfrm>
            <a:off x="25066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5822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318276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315200" y="4096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30840" y="1677960"/>
            <a:ext cx="2435400" cy="8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05360" y="2057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12716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Moe now learns, incorrectly, that the Source Ad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-90-27-76-96-93 is on Port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2517840" y="1984320"/>
          <a:ext cx="622620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984320"/>
                    <a:ext cx="622620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4751640" y="1208160"/>
            <a:ext cx="109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2347920" y="2347920"/>
          <a:ext cx="5613480" cy="32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7920" y="2347920"/>
                    <a:ext cx="561348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4311720" y="1320840"/>
            <a:ext cx="231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- Po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1" name=""/>
          <p:cNvGraphicFramePr/>
          <p:nvPr/>
        </p:nvGraphicFramePr>
        <p:xfrm>
          <a:off x="2822400" y="2163600"/>
          <a:ext cx="8313840" cy="42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2400" y="2163600"/>
                    <a:ext cx="83138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>
            <a:off x="4337640" y="1371600"/>
            <a:ext cx="23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- Por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5486400" y="3124080"/>
            <a:ext cx="45720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, the root must be sel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ID, it is el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st cost paths from root are tra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tree, these paths are pla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sh is made by folks like m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bridges find a spanning 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33720" y="3124080"/>
            <a:ext cx="457200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think that I shall never s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raph more lovely than a 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ee whose crucial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loop-free connectiv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ee that must be sure to s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packets can reach every 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46800" y="1720800"/>
            <a:ext cx="5334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panning Tree Algorhyme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y Radia Perl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326280" y="5979960"/>
            <a:ext cx="2587680" cy="8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9960" y="1987560"/>
            <a:ext cx="2435400" cy="8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248160" y="2438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133720" y="2832120"/>
            <a:ext cx="5854680" cy="577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213680" y="3029040"/>
            <a:ext cx="216000" cy="339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1720" y="3029040"/>
            <a:ext cx="217440" cy="339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46240" y="2568600"/>
            <a:ext cx="223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2743200" y="3029040"/>
            <a:ext cx="216000" cy="339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2200320" y="4995720"/>
            <a:ext cx="5854680" cy="578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7147080" y="5192640"/>
            <a:ext cx="214200" cy="339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7485120" y="5192640"/>
            <a:ext cx="214200" cy="339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014640" y="4734000"/>
            <a:ext cx="210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70800" y="5584680"/>
            <a:ext cx="15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2676600" y="5192640"/>
            <a:ext cx="214200" cy="339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280280" y="3487680"/>
            <a:ext cx="47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80280" y="3290760"/>
            <a:ext cx="1440" cy="209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4520" y="296388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7920" y="512748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5519880"/>
            <a:ext cx="610920" cy="514080"/>
          </a:xfrm>
          <a:custGeom>
            <a:avLst/>
            <a:gdLst/>
            <a:ahLst/>
            <a:rect l="l" t="t" r="r" b="b"/>
            <a:pathLst>
              <a:path w="385" h="324">
                <a:moveTo>
                  <a:pt x="0" y="0"/>
                </a:moveTo>
                <a:lnTo>
                  <a:pt x="0" y="323"/>
                </a:lnTo>
                <a:lnTo>
                  <a:pt x="384" y="323"/>
                </a:lnTo>
                <a:lnTo>
                  <a:pt x="384" y="31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2946240" y="5192640"/>
            <a:ext cx="216000" cy="339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flipV="1">
            <a:off x="3352680" y="3944520"/>
            <a:ext cx="1219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78200" y="3290760"/>
            <a:ext cx="136440" cy="59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811600" y="3946680"/>
            <a:ext cx="1440" cy="150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80280" y="4537080"/>
            <a:ext cx="47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06760" y="2438280"/>
            <a:ext cx="33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76600" y="5584680"/>
            <a:ext cx="81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0"/>
          <a:stretch/>
        </p:blipFill>
        <p:spPr>
          <a:xfrm>
            <a:off x="4368960" y="3487680"/>
            <a:ext cx="882360" cy="758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3487680" y="5716440"/>
            <a:ext cx="881280" cy="760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038840" y="42084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44960" y="650412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2"/>
          <a:stretch/>
        </p:blipFill>
        <p:spPr>
          <a:xfrm>
            <a:off x="2743200" y="3816360"/>
            <a:ext cx="666720" cy="282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810880" y="40924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66080" y="3416400"/>
            <a:ext cx="0" cy="69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066080" y="4253040"/>
            <a:ext cx="0" cy="62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324480" y="6400800"/>
            <a:ext cx="184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114300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Larry also learns, incorrectly, that the Source Address 00-90-27-76-96-93 is on Port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326280" y="5869080"/>
            <a:ext cx="2587680" cy="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8288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4804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8566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7338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5066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19033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74055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77817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8083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770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24321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55496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549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466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721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465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27338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V="1">
            <a:off x="31827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575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5830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549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5584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21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43149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1"/>
          <a:stretch/>
        </p:blipFill>
        <p:spPr>
          <a:xfrm>
            <a:off x="33354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9499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545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2"/>
          <a:stretch/>
        </p:blipFill>
        <p:spPr>
          <a:xfrm>
            <a:off x="25066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5822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15200" y="4096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30840" y="1957320"/>
            <a:ext cx="2435400" cy="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819160" y="61722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1203480"/>
            <a:ext cx="723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when Host Baran sends a frame to Host Kahn, it will be sent the longer way, through Switch Larry’s port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981080" y="2138400"/>
            <a:ext cx="693432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same confusion happens, but this                                 time with Host Baran. Okay, maybe this is not the end of the world. Frames will just take a longer path and you may also see other “unexpected result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about broadcast frames, like ARP Reque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15:45:17Z</dcterms:created>
  <dc:creator>matthias</dc:creator>
  <dc:description/>
  <dc:language>en-US</dc:language>
  <cp:lastModifiedBy>brad johnson</cp:lastModifiedBy>
  <dcterms:modified xsi:type="dcterms:W3CDTF">2000-10-12T08:20:02Z</dcterms:modified>
  <cp:revision>30</cp:revision>
  <dc:subject/>
  <dc:title>PowerPoint Presentation</dc:title>
</cp:coreProperties>
</file>